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834A-9B52-4D88-BFBA-B49CF6049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F0D2-28E2-4492-BCEB-2AA86EB5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0ADB-EB00-4429-AC99-86CE82852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689A-0F60-4182-9A89-5C5758371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3E17-3334-4E9C-AF47-73E06F32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CF8F-1C52-40DF-A510-577047099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AA14-2906-4107-98A1-4DDFB752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9A15-B912-4C84-8997-1AEDFA8DE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A1DF-BAD9-4883-8AB2-1781A9C1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08D8-3112-40E0-9F18-86E7D46B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70FF-8B95-4F5B-8AF6-B619488A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EE87-E711-4FFF-8B6E-963DECF4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5EC8-CC0F-48E9-A880-14B04AE49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48360" y="333360"/>
            <a:ext cx="3887640" cy="6453360"/>
          </a:xfrm>
          <a:custGeom>
            <a:avLst/>
            <a:gdLst>
              <a:gd name="textAreaLeft" fmla="*/ 189720 w 3887640"/>
              <a:gd name="textAreaRight" fmla="*/ 3697920 w 3887640"/>
              <a:gd name="textAreaTop" fmla="*/ 189720 h 6453360"/>
              <a:gd name="textAreaBottom" fmla="*/ 6263640 h 6453360"/>
            </a:gdLst>
            <a:ahLst/>
            <a:rect l="textAreaLeft" t="textAreaTop" r="textAreaRight" b="textAreaBottom"/>
            <a:pathLst>
              <a:path w="21600" h="35854">
                <a:moveTo>
                  <a:pt x="3600" y="0"/>
                </a:moveTo>
                <a:arcTo wR="3600" hR="3600" stAng="16200000" swAng="-5400000"/>
                <a:lnTo>
                  <a:pt x="0" y="32254"/>
                </a:lnTo>
                <a:arcTo wR="3600" hR="3600" stAng="10800000" swAng="-5400000"/>
                <a:lnTo>
                  <a:pt x="18000" y="358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8000" y="333360"/>
            <a:ext cx="3529080" cy="6453360"/>
          </a:xfrm>
          <a:custGeom>
            <a:avLst/>
            <a:gdLst>
              <a:gd name="textAreaLeft" fmla="*/ 172080 w 3529080"/>
              <a:gd name="textAreaRight" fmla="*/ 3357000 w 3529080"/>
              <a:gd name="textAreaTop" fmla="*/ 172080 h 6453360"/>
              <a:gd name="textAreaBottom" fmla="*/ 6281280 h 6453360"/>
            </a:gdLst>
            <a:ahLst/>
            <a:rect l="textAreaLeft" t="textAreaTop" r="textAreaRight" b="textAreaBottom"/>
            <a:pathLst>
              <a:path w="21600" h="39496">
                <a:moveTo>
                  <a:pt x="3600" y="0"/>
                </a:moveTo>
                <a:arcTo wR="3600" hR="3600" stAng="16200000" swAng="-5400000"/>
                <a:lnTo>
                  <a:pt x="0" y="35896"/>
                </a:lnTo>
                <a:arcTo wR="3600" hR="3600" stAng="10800000" swAng="-5400000"/>
                <a:lnTo>
                  <a:pt x="18000" y="394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32360" y="1268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24000" y="1052640"/>
            <a:ext cx="3456000" cy="5182920"/>
            <a:chOff x="324000" y="1052640"/>
            <a:chExt cx="3456000" cy="5182920"/>
          </a:xfrm>
        </p:grpSpPr>
        <p:sp>
          <p:nvSpPr>
            <p:cNvPr id="45" name=""/>
            <p:cNvSpPr/>
            <p:nvPr/>
          </p:nvSpPr>
          <p:spPr>
            <a:xfrm>
              <a:off x="1295280" y="1052640"/>
              <a:ext cx="122400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ยื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68360" y="2635200"/>
              <a:ext cx="2808360" cy="50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ตรวจสอบเงินตามแผนรายเดือ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95280" y="5732640"/>
              <a:ext cx="1260360" cy="50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บันทึกข้อมู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43280" y="4579920"/>
              <a:ext cx="144144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ประสานงานแผ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ของหน่วยงา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4579920"/>
              <a:ext cx="1439640" cy="504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ยืมเงินทดลอ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63640" y="5732640"/>
              <a:ext cx="1692360" cy="502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ปรับระบบ</a:t>
              </a:r>
              <a:r>
                <a:rPr b="1" lang="en-US" sz="2500" spc="-1" strike="noStrike">
                  <a:solidFill>
                    <a:srgbClr val="000000"/>
                  </a:solidFill>
                  <a:latin typeface="Angsana New"/>
                  <a:ea typeface="EucrosiaUPC"/>
                </a:rPr>
                <a:t>SMART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54200" y="3500280"/>
              <a:ext cx="647640" cy="64800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ม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38560" y="3481560"/>
              <a:ext cx="647640" cy="647640"/>
            </a:xfrm>
            <a:prstGeom prst="diamond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ไม่ม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16000" y="1843200"/>
              <a:ext cx="1764000" cy="3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ตรวจสอบรหัสโครงการ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871640" y="1555920"/>
              <a:ext cx="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871280" y="19875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79640" y="313992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664000" y="3139920"/>
              <a:ext cx="0" cy="34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79640" y="414828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664000" y="414828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79640" y="5084640"/>
              <a:ext cx="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519280" y="1268280"/>
              <a:ext cx="12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627280" y="530064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 txBox="1"/>
          <p:nvPr/>
        </p:nvSpPr>
        <p:spPr>
          <a:xfrm>
            <a:off x="3419640" y="190440"/>
            <a:ext cx="2232000" cy="574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การเงิน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276720" y="1052640"/>
            <a:ext cx="2590560" cy="4824360"/>
            <a:chOff x="3276720" y="1052640"/>
            <a:chExt cx="2590560" cy="4824360"/>
          </a:xfrm>
        </p:grpSpPr>
        <p:sp>
          <p:nvSpPr>
            <p:cNvPr id="65" name=""/>
            <p:cNvSpPr/>
            <p:nvPr/>
          </p:nvSpPr>
          <p:spPr>
            <a:xfrm>
              <a:off x="3781440" y="1052640"/>
              <a:ext cx="115236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เบิกจ่า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08360" y="2133720"/>
              <a:ext cx="1297080" cy="574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กรณีคืนเงิ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80000" y="5011560"/>
              <a:ext cx="1152360" cy="865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บันทึกข้อมู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เข้าระบ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76720" y="3427560"/>
              <a:ext cx="2089080" cy="79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ff"/>
                </a:gs>
              </a:gsLst>
              <a:lin ang="13500000"/>
            </a:gradFill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ตรวจสอบรหัสโครงกา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อ้างจากที่หนังสือเดิ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357800" y="155592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57800" y="421956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57800" y="270828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867280" y="4724280"/>
              <a:ext cx="0" cy="28728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867280" y="5445000"/>
              <a:ext cx="0" cy="28764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5149800" y="1052640"/>
            <a:ext cx="3886200" cy="5543280"/>
            <a:chOff x="5149800" y="1052640"/>
            <a:chExt cx="3886200" cy="5543280"/>
          </a:xfrm>
        </p:grpSpPr>
        <p:sp>
          <p:nvSpPr>
            <p:cNvPr id="75" name=""/>
            <p:cNvSpPr/>
            <p:nvPr/>
          </p:nvSpPr>
          <p:spPr>
            <a:xfrm>
              <a:off x="6084720" y="1052640"/>
              <a:ext cx="266400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ตรวจสอบรหัสโครงกา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435640" y="3860640"/>
              <a:ext cx="201600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ตรวจสอบว่าเป็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รายการ</a:t>
              </a:r>
              <a:r>
                <a:rPr b="1" lang="en-US" sz="2500" spc="-1" strike="noStrike">
                  <a:solidFill>
                    <a:srgbClr val="000000"/>
                  </a:solidFill>
                  <a:latin typeface="Angsana New"/>
                  <a:ea typeface="EucrosiaUPC"/>
                </a:rPr>
                <a:t>POS/</a:t>
              </a:r>
              <a:r>
                <a:rPr b="1" lang="en-US" sz="2400" spc="-1" strike="noStrike">
                  <a:solidFill>
                    <a:srgbClr val="000000"/>
                  </a:solidFill>
                  <a:latin typeface="Angsana New"/>
                  <a:cs typeface="EucrosiaUPC"/>
                </a:rPr>
                <a:t>ไม่มี</a:t>
              </a:r>
              <a:r>
                <a:rPr b="1" lang="en-US" sz="2500" spc="-1" strike="noStrike">
                  <a:solidFill>
                    <a:srgbClr val="000000"/>
                  </a:solidFill>
                  <a:latin typeface="Angsana New"/>
                  <a:ea typeface="EucrosiaUPC"/>
                </a:rPr>
                <a:t>PO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513560" y="4005360"/>
              <a:ext cx="1522440" cy="863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ประสานงา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แผนหน่วยงา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797440" y="2060640"/>
              <a:ext cx="2951280" cy="50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ตรวจสอบเงินตามแผนรายเดือ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92720" y="5011560"/>
              <a:ext cx="1224000" cy="433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เลือกรายกา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659640" y="5732640"/>
              <a:ext cx="792000" cy="863280"/>
            </a:xfrm>
            <a:custGeom>
              <a:avLst/>
              <a:gdLst>
                <a:gd name="textAreaLeft" fmla="*/ 38520 w 792000"/>
                <a:gd name="textAreaRight" fmla="*/ 753480 w 792000"/>
                <a:gd name="textAreaTop" fmla="*/ 38520 h 863280"/>
                <a:gd name="textAreaBottom" fmla="*/ 824760 h 863280"/>
              </a:gdLst>
              <a:ahLst/>
              <a:rect l="textAreaLeft" t="textAreaTop" r="textAreaRight" b="textAreaBottom"/>
              <a:pathLst>
                <a:path w="21600" h="23543">
                  <a:moveTo>
                    <a:pt x="3600" y="0"/>
                  </a:moveTo>
                  <a:arcTo wR="3600" hR="3600" stAng="16200000" swAng="-5400000"/>
                  <a:lnTo>
                    <a:pt x="0" y="19943"/>
                  </a:lnTo>
                  <a:arcTo wR="3600" hR="3600" stAng="10800000" swAng="-5400000"/>
                  <a:lnTo>
                    <a:pt x="18000" y="235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บันทึ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รายกา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59640" y="5011560"/>
              <a:ext cx="863640" cy="432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เบิกจ่า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49800" y="5732640"/>
              <a:ext cx="1438200" cy="836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บันทึ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รายการเบิกจ่า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67640" y="5157720"/>
              <a:ext cx="1008000" cy="1150920"/>
            </a:xfrm>
            <a:custGeom>
              <a:avLst/>
              <a:gdLst>
                <a:gd name="textAreaLeft" fmla="*/ 48960 w 1008000"/>
                <a:gd name="textAreaRight" fmla="*/ 959040 w 1008000"/>
                <a:gd name="textAreaTop" fmla="*/ 48960 h 1150920"/>
                <a:gd name="textAreaBottom" fmla="*/ 1101960 h 1150920"/>
              </a:gdLst>
              <a:ahLst/>
              <a:rect l="textAreaLeft" t="textAreaTop" r="textAreaRight" b="textAreaBottom"/>
              <a:pathLst>
                <a:path w="21600" h="24661">
                  <a:moveTo>
                    <a:pt x="3600" y="0"/>
                  </a:moveTo>
                  <a:arcTo wR="3600" hR="3600" stAng="16200000" swAng="-5400000"/>
                  <a:lnTo>
                    <a:pt x="0" y="21061"/>
                  </a:lnTo>
                  <a:arcTo wR="3600" hR="3600" stAng="10800000" swAng="-5400000"/>
                  <a:lnTo>
                    <a:pt x="18000" y="246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284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ปรับข้อมู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ระบ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ngsana New"/>
                  <a:ea typeface="EucrosiaUPC"/>
                </a:rPr>
                <a:t>SMA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308720" y="1555920"/>
              <a:ext cx="0" cy="504720"/>
            </a:xfrm>
            <a:prstGeom prst="line">
              <a:avLst/>
            </a:prstGeom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84720" y="2779560"/>
              <a:ext cx="648000" cy="648000"/>
            </a:xfrm>
            <a:prstGeom prst="diamond">
              <a:avLst/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ม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869240" y="2905200"/>
              <a:ext cx="647640" cy="647640"/>
            </a:xfrm>
            <a:prstGeom prst="diamond">
              <a:avLst/>
            </a:prstGeom>
            <a:gradFill rotWithShape="0">
              <a:gsLst>
                <a:gs pos="0">
                  <a:srgbClr val="fedee8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Verdana"/>
                  <a:cs typeface="EucrosiaUPC"/>
                </a:rPr>
                <a:t>ไม่ม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194680" y="2563920"/>
              <a:ext cx="0" cy="344520"/>
            </a:xfrm>
            <a:prstGeom prst="line">
              <a:avLst/>
            </a:prstGeom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10160" y="3427560"/>
              <a:ext cx="0" cy="43164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194680" y="3571920"/>
              <a:ext cx="0" cy="43164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372360" y="2563920"/>
              <a:ext cx="0" cy="215640"/>
            </a:xfrm>
            <a:prstGeom prst="line">
              <a:avLst/>
            </a:prstGeom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20000" y="4724280"/>
              <a:ext cx="0" cy="28728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20000" y="5445000"/>
              <a:ext cx="0" cy="28764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172360" y="4870440"/>
              <a:ext cx="0" cy="287280"/>
            </a:xfrm>
            <a:prstGeom prst="line">
              <a:avLst/>
            </a:prstGeom>
            <a:ln w="93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7480" y="448920"/>
            <a:ext cx="31910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800" spc="-1" strike="noStrike">
                <a:solidFill>
                  <a:srgbClr val="000000"/>
                </a:solidFill>
                <a:latin typeface="Angsana New"/>
                <a:cs typeface="EucrosiaUPC"/>
              </a:rPr>
              <a:t>การวาง </a:t>
            </a:r>
            <a:r>
              <a:rPr b="1" lang="en-US" sz="6800" spc="-1" strike="noStrike">
                <a:solidFill>
                  <a:srgbClr val="000000"/>
                </a:solidFill>
                <a:latin typeface="Angsana New"/>
                <a:ea typeface="EucrosiaUPC"/>
              </a:rPr>
              <a:t>PO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2000" y="1219320"/>
            <a:ext cx="295272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edee8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ngsana New"/>
                <a:cs typeface="EucrosiaUPC"/>
              </a:rPr>
              <a:t>เลือกแผนงาน</a:t>
            </a:r>
            <a:r>
              <a:rPr b="1" lang="en-US" sz="2800" spc="-1" strike="noStrike">
                <a:solidFill>
                  <a:srgbClr val="000000"/>
                </a:solidFill>
                <a:latin typeface="Angsana New"/>
                <a:ea typeface="EucrosiaUPC"/>
              </a:rPr>
              <a:t>/</a:t>
            </a:r>
            <a:r>
              <a:rPr b="1" lang="hi-IN" sz="2800" spc="-1" strike="noStrike">
                <a:solidFill>
                  <a:srgbClr val="000000"/>
                </a:solidFill>
                <a:latin typeface="Angsana New"/>
                <a:cs typeface="EucrosiaUPC"/>
              </a:rPr>
              <a:t>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03640" y="4098960"/>
            <a:ext cx="345780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ปรึกษาแผนงานของแต่ละหน่วยงาน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4532400"/>
            <a:ext cx="352908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รับเลข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ea typeface="EucrosiaUPC"/>
              </a:rPr>
              <a:t>POS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จากโปรแกรม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ea typeface="EucrosiaUPC"/>
              </a:rPr>
              <a:t>SMART51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76360" y="5180040"/>
            <a:ext cx="237492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วาง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ea typeface="EucrosiaUPC"/>
              </a:rPr>
              <a:t>PO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ใน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ea typeface="EucrosiaUPC"/>
              </a:rPr>
              <a:t>GFM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05080" y="2082960"/>
            <a:ext cx="287964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3e5f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ngsana New"/>
                <a:cs typeface="EucrosiaUPC"/>
              </a:rPr>
              <a:t>ตรวจสอบเงินก่อนก่อหนี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3811680"/>
            <a:ext cx="172728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บันทึกข้อมูล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5640" y="2946240"/>
            <a:ext cx="574560" cy="720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ม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885080" y="2908440"/>
            <a:ext cx="574560" cy="79200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009999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ไม่ม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8000" y="5827680"/>
            <a:ext cx="3816360" cy="765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66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  <a:cs typeface="EucrosiaUPC"/>
              </a:rPr>
              <a:t>กลับไปปรับปรุงข้อมูล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ea typeface="EucrosiaUPC"/>
              </a:rPr>
              <a:t>POS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  <a:cs typeface="EucrosiaUPC"/>
              </a:rPr>
              <a:t>เดิม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  <a:cs typeface="EucrosiaUPC"/>
              </a:rPr>
              <a:t>เพื่อบันทึกหมายเลข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ea typeface="EucrosiaUPC"/>
              </a:rPr>
              <a:t>PO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  <a:cs typeface="EucrosiaUPC"/>
              </a:rPr>
              <a:t>จาก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ea typeface="EucrosiaUPC"/>
              </a:rPr>
              <a:t>GFM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35640" y="5035680"/>
            <a:ext cx="252108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ngsana New"/>
                <a:cs typeface="EucrosiaUPC"/>
              </a:rPr>
              <a:t>ปรับระบบ </a:t>
            </a:r>
            <a:r>
              <a:rPr b="1" lang="en-US" sz="2500" spc="-1" strike="noStrike">
                <a:solidFill>
                  <a:srgbClr val="000000"/>
                </a:solidFill>
                <a:latin typeface="Angsana New"/>
                <a:ea typeface="EucrosiaUPC"/>
              </a:rPr>
              <a:t>SMAR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43280" y="17953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32000" y="330660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3280" y="26589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>
            <a:stCxn id="101" idx="1"/>
            <a:endCxn id="100" idx="1"/>
          </p:cNvCxnSpPr>
          <p:nvPr/>
        </p:nvCxnSpPr>
        <p:spPr>
          <a:xfrm flipV="1" rot="10800000">
            <a:off x="610560" y="3306240"/>
            <a:ext cx="144720" cy="758160"/>
          </a:xfrm>
          <a:prstGeom prst="curvedConnector5">
            <a:avLst>
              <a:gd name="adj1" fmla="val 454862"/>
              <a:gd name="adj2" fmla="val 49976"/>
              <a:gd name="adj3" fmla="val 4548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96" idx="3"/>
            <a:endCxn id="104" idx="3"/>
          </p:cNvCxnSpPr>
          <p:nvPr/>
        </p:nvCxnSpPr>
        <p:spPr>
          <a:xfrm flipH="1">
            <a:off x="7956360" y="4351320"/>
            <a:ext cx="505440" cy="937440"/>
          </a:xfrm>
          <a:prstGeom prst="curvedConnector5">
            <a:avLst>
              <a:gd name="adj1" fmla="val -45260"/>
              <a:gd name="adj2" fmla="val 49980"/>
              <a:gd name="adj3" fmla="val -452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2" idx="3"/>
            <a:endCxn id="96" idx="3"/>
          </p:cNvCxnSpPr>
          <p:nvPr/>
        </p:nvCxnSpPr>
        <p:spPr>
          <a:xfrm>
            <a:off x="8459280" y="3305160"/>
            <a:ext cx="2520" cy="1046880"/>
          </a:xfrm>
          <a:prstGeom prst="curvedConnector5">
            <a:avLst>
              <a:gd name="adj1" fmla="val 14500000"/>
              <a:gd name="adj2" fmla="val 49982"/>
              <a:gd name="adj3" fmla="val 14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97" idx="1"/>
            <a:endCxn id="98" idx="1"/>
          </p:cNvCxnSpPr>
          <p:nvPr/>
        </p:nvCxnSpPr>
        <p:spPr>
          <a:xfrm flipH="1" flipV="1" rot="10800000">
            <a:off x="826560" y="4783680"/>
            <a:ext cx="650160" cy="648360"/>
          </a:xfrm>
          <a:prstGeom prst="curvedConnector5">
            <a:avLst>
              <a:gd name="adj1" fmla="val -35180"/>
              <a:gd name="adj2" fmla="val 50000"/>
              <a:gd name="adj3" fmla="val -351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98" idx="1"/>
            <a:endCxn id="103" idx="1"/>
          </p:cNvCxnSpPr>
          <p:nvPr/>
        </p:nvCxnSpPr>
        <p:spPr>
          <a:xfrm flipH="1" flipV="1" rot="10800000">
            <a:off x="1475280" y="5431320"/>
            <a:ext cx="432360" cy="778680"/>
          </a:xfrm>
          <a:prstGeom prst="curvedConnector5">
            <a:avLst>
              <a:gd name="adj1" fmla="val -52916"/>
              <a:gd name="adj2" fmla="val 50000"/>
              <a:gd name="adj3" fmla="val -529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100" idx="1"/>
            <a:endCxn id="97" idx="1"/>
          </p:cNvCxnSpPr>
          <p:nvPr/>
        </p:nvCxnSpPr>
        <p:spPr>
          <a:xfrm flipH="1" flipV="1" rot="10800000">
            <a:off x="610200" y="4063680"/>
            <a:ext cx="216360" cy="721440"/>
          </a:xfrm>
          <a:prstGeom prst="curvedConnector5">
            <a:avLst>
              <a:gd name="adj1" fmla="val -105833"/>
              <a:gd name="adj2" fmla="val 49975"/>
              <a:gd name="adj3" fmla="val -1058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02:32:38Z</dcterms:created>
  <dc:creator>Microsoft</dc:creator>
  <dc:description/>
  <dc:language>en-US</dc:language>
  <cp:lastModifiedBy>Microsoft</cp:lastModifiedBy>
  <dcterms:modified xsi:type="dcterms:W3CDTF">2007-10-16T02:33:02Z</dcterms:modified>
  <cp:revision>1</cp:revision>
  <dc:subject/>
  <dc:title>ภาพนิ่ง 1</dc:title>
</cp:coreProperties>
</file>