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ashreg.wav" ContentType="audio/x-wav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71708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367-1DC4-478D-8941-5CE75947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5040"/>
            <a:ext cx="89154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3FE-83D3-4DD6-9E26-202F1871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50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50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64E0-3F4E-4494-8DA6-B6A2B07C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50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50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5040"/>
            <a:ext cx="287064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C48-494B-4083-AD4B-52A47E7E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4C3F-ED47-427E-894D-86376FCB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DEB-C7B0-4D70-B23A-E8E48BAF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DAC5-A1D0-484E-A3D1-547DA25F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4C65-AB06-49EB-ABF5-0089067D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34D-2FEA-43A2-AE72-C6DE0A28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50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89FD-4266-4431-80E4-E9B66B02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50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E1F-BEBC-412D-9928-A49B3AD0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5040"/>
            <a:ext cx="8915400" cy="215964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80C-0299-4D45-A92A-26E53CCE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14120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277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rmAutofit/>
          </a:bodyPr>
          <a:p>
            <a:pPr marL="169920" indent="-16992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3968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126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787320" indent="-11412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1012680" indent="-1126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1012680" indent="-1126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1012680" indent="-112680">
              <a:spcBef>
                <a:spcPts val="374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3120"/>
            <a:ext cx="2309760" cy="4813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th-TH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th-TH" sz="7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560" y="6243120"/>
            <a:ext cx="3140280" cy="4813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1000" y="6243120"/>
            <a:ext cx="2309760" cy="481320"/>
          </a:xfrm>
          <a:prstGeom prst="rect">
            <a:avLst/>
          </a:prstGeom>
          <a:noFill/>
          <a:ln w="0">
            <a:noFill/>
          </a:ln>
        </p:spPr>
        <p:txBody>
          <a:bodyPr lIns="45000" rIns="45000" tIns="22680" bIns="2268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096AF4-810E-43F7-8A97-DF02D9D55D15}" type="slidenum">
              <a:rPr b="0" lang="en-US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0520" y="115920"/>
            <a:ext cx="8856360" cy="6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800" spc="-1" strike="noStrike">
                <a:solidFill>
                  <a:srgbClr val="ff33cc"/>
                </a:solidFill>
                <a:latin typeface="Cordia New"/>
                <a:cs typeface="LilyUPC"/>
              </a:rPr>
              <a:t>แผนภูมิแสดงความเชื่อมโยงยุทธศาสตร์การจัดสรรงบประมาณ ผลผลิต และงบประมาณที่ได้รับปี </a:t>
            </a:r>
            <a:r>
              <a:rPr b="1" lang="en-US" sz="1800" spc="-1" strike="noStrike">
                <a:solidFill>
                  <a:srgbClr val="ff33cc"/>
                </a:solidFill>
                <a:latin typeface="Cordia New"/>
                <a:ea typeface="LilyUPC"/>
              </a:rPr>
              <a:t>2551 </a:t>
            </a:r>
            <a:r>
              <a:rPr b="1" lang="hi-IN" sz="1800" spc="-1" strike="noStrike">
                <a:solidFill>
                  <a:srgbClr val="ff33cc"/>
                </a:solidFill>
                <a:latin typeface="Cordia New"/>
                <a:cs typeface="LilyUPC"/>
              </a:rPr>
              <a:t>กรมสนับสนุนบริการสุขภาพ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8520" y="566640"/>
            <a:ext cx="1336680" cy="87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Cordia New"/>
                <a:cs typeface="Cordia New"/>
              </a:rPr>
              <a:t>ยุทธศาสตร์กา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Cordia New"/>
                <a:cs typeface="Cordia New"/>
              </a:rPr>
              <a:t>จัดสรร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2760" y="541440"/>
            <a:ext cx="4535280" cy="504720"/>
          </a:xfrm>
          <a:prstGeom prst="roundRect">
            <a:avLst>
              <a:gd name="adj" fmla="val 10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533520" indent="-53352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1.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ยุทธศาสตร์การส่งเสริมให้ประชาชนมีสุขภาพที่ดี มีคุณธรรมนำความรู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และสามารถปรับตัวสู่สังคมฐานความรู้</a:t>
            </a:r>
            <a:r>
              <a:rPr b="1" lang="en-US" sz="1400" spc="-1" strike="noStrike">
                <a:solidFill>
                  <a:srgbClr val="0000ff"/>
                </a:solidFill>
                <a:latin typeface="Browallia New"/>
                <a:ea typeface="Browallia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61120" y="541440"/>
            <a:ext cx="3130560" cy="504720"/>
          </a:xfrm>
          <a:prstGeom prst="roundRect">
            <a:avLst>
              <a:gd name="adj" fmla="val 107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6. 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ยุทธศาสตร์การรักษาความมั่นคงของชาติแล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ความสงบสุขของสังค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12880" y="1143000"/>
            <a:ext cx="4318200" cy="57636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1.3  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ปรับปรุงและพัฒนาระบบสุขภาพแห่งชาติ และระบบบริการสาธารณสุ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รวมทั้งระบบหลักประกันสุขภาพถ้วนหน้า </a:t>
            </a: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( 723,726,600 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บาท</a:t>
            </a: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20" y="1285920"/>
            <a:ext cx="1295640" cy="40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2400" rIns="32400" tIns="16200" bIns="16200" anchor="t">
            <a:spAutoFit/>
          </a:bodyPr>
          <a:p>
            <a:pPr algn="ctr">
              <a:lnSpc>
                <a:spcPct val="76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hi-IN" sz="1600" spc="-1" strike="noStrike">
                <a:solidFill>
                  <a:srgbClr val="0000ff"/>
                </a:solidFill>
                <a:latin typeface="Cordia New"/>
                <a:cs typeface="Cordia New"/>
              </a:rPr>
              <a:t>แผนงบประมา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76880" y="1143000"/>
            <a:ext cx="3262320" cy="576360"/>
          </a:xfrm>
          <a:prstGeom prst="roundRect">
            <a:avLst>
              <a:gd name="adj" fmla="val 10722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6.5 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ป้องกันและปราบปรามอาชญากรรม และยาเสพติ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25440"/>
                <a:tab algn="l" pos="650880"/>
                <a:tab algn="l" pos="976320"/>
                <a:tab algn="l" pos="1301760"/>
                <a:tab algn="l" pos="1627200"/>
                <a:tab algn="l" pos="1952640"/>
                <a:tab algn="l" pos="2278080"/>
                <a:tab algn="l" pos="2603520"/>
                <a:tab algn="l" pos="2928960"/>
                <a:tab algn="l" pos="3254400"/>
                <a:tab algn="l" pos="3579840"/>
                <a:tab algn="l" pos="3905280"/>
                <a:tab algn="l" pos="4230720"/>
                <a:tab algn="l" pos="4556160"/>
                <a:tab algn="l" pos="4881600"/>
                <a:tab algn="l" pos="5207040"/>
                <a:tab algn="l" pos="5532480"/>
                <a:tab algn="l" pos="5857920"/>
                <a:tab algn="l" pos="6183360"/>
                <a:tab algn="l" pos="65088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( 8,177,000 </a:t>
            </a:r>
            <a:r>
              <a:rPr b="1" lang="hi-IN" sz="1400" spc="-1" strike="noStrike">
                <a:solidFill>
                  <a:srgbClr val="0000ff"/>
                </a:solidFill>
                <a:latin typeface="Cordia New"/>
                <a:cs typeface="Cordia New"/>
              </a:rPr>
              <a:t>บาท</a:t>
            </a:r>
            <a:r>
              <a:rPr b="1" lang="en-US" sz="1400" spc="-1" strike="noStrike">
                <a:solidFill>
                  <a:srgbClr val="0000ff"/>
                </a:solidFill>
                <a:latin typeface="Cordia New"/>
                <a:ea typeface="Cordia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520" y="1852560"/>
            <a:ext cx="13683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600" spc="-1" strike="noStrike">
                <a:solidFill>
                  <a:srgbClr val="ff0000"/>
                </a:solidFill>
                <a:latin typeface="Browallia New"/>
                <a:cs typeface="Browallia New"/>
              </a:rPr>
              <a:t>เป้าหมายการให้บริการกระทรว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84520" y="1801800"/>
            <a:ext cx="2016000" cy="5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50000">
                <a:srgbClr val="fefefe"/>
              </a:gs>
              <a:gs pos="100000">
                <a:srgbClr val="ff9933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สามารถเข้าถึงหลักประกัน</a:t>
            </a: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ได้รับบริการสุขภาพที่มีคุณภาพมาตรฐานอย่างทั่วถึ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เป็นธรรม 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524,056,5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73600" y="1781280"/>
            <a:ext cx="2808360" cy="5032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. 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มีพฤติกรรมสุขภาพพอเพียง ที่ถูกต้อง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วมทั้งมีส่วนร่วมในการดูแลสุขภาพที่เหมาะสม 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99,670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,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 00 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53240" y="1781280"/>
            <a:ext cx="2844720" cy="5032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df4fe3"/>
              </a:gs>
              <a:gs pos="50000">
                <a:srgbClr val="ffffff"/>
              </a:gs>
              <a:gs pos="100000">
                <a:srgbClr val="df4f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ผู้เสพและผู้ติดยาเสพติดได้รั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บำบัดรักษาฟื้นฟูให้สามารถดำเนินชีวิตได้ตามปกติ 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8,177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8520" y="2583000"/>
            <a:ext cx="151128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7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600" spc="-1" strike="noStrike">
                <a:solidFill>
                  <a:srgbClr val="ff00ff"/>
                </a:solidFill>
                <a:latin typeface="Browallia New"/>
                <a:cs typeface="Browallia New"/>
              </a:rPr>
              <a:t>ยุทธศาสตร์กระทรว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26080" y="2354400"/>
            <a:ext cx="1941480" cy="628560"/>
          </a:xfrm>
          <a:prstGeom prst="rect">
            <a:avLst/>
          </a:prstGeom>
          <a:gradFill rotWithShape="0">
            <a:gsLst>
              <a:gs pos="0">
                <a:srgbClr val="cc99ff">
                  <a:alpha val="90196"/>
                </a:srgbClr>
              </a:gs>
              <a:gs pos="50000">
                <a:srgbClr val="fefefe"/>
              </a:gs>
              <a:gs pos="100000">
                <a:srgbClr val="cc99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3280" rIns="53280" tIns="26640" bIns="26640" anchor="ctr">
            <a:noAutofit/>
          </a:bodyPr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2. </a:t>
            </a: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ร้างความเข้มแข็งในการมีส่วนร่วมขอ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ระบวนการสุขภาพภาคประชาชน รวมทั้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มาตรการที่เอื้อต่อการปรับเปลี่ย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ฤติกรรมสุขภาพที่ด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60880" y="2354400"/>
            <a:ext cx="1425600" cy="639720"/>
          </a:xfrm>
          <a:prstGeom prst="rect">
            <a:avLst/>
          </a:prstGeom>
          <a:gradFill rotWithShape="0">
            <a:gsLst>
              <a:gs pos="0">
                <a:srgbClr val="cc99ff">
                  <a:alpha val="90196"/>
                </a:srgbClr>
              </a:gs>
              <a:gs pos="50000">
                <a:srgbClr val="fefefe"/>
              </a:gs>
              <a:gs pos="100000">
                <a:srgbClr val="cc99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3280" rIns="53280" tIns="26640" bIns="26640" anchor="ctr">
            <a:noAutofit/>
          </a:bodyPr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1. </a:t>
            </a: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สริมสร้างปัจจัยพื้นฐานของการมีพฤติกรร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ภาพที่ถูกต้องอย่างพอเพียงที่เอื้อต่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มีสุขภาพดีของประชาช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2880" y="2343240"/>
            <a:ext cx="2376360" cy="63972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ff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3280" rIns="53280" tIns="26640" bIns="26640" anchor="ctr">
            <a:noAutofit/>
          </a:bodyPr>
          <a:p>
            <a:pPr marL="533520" indent="-53352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BrowalliaUPC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BrowalliaUPC"/>
              </a:rPr>
              <a:t>2.1.</a:t>
            </a:r>
            <a:r>
              <a:rPr b="0" lang="hi-IN" sz="800" spc="-1" strike="noStrike">
                <a:solidFill>
                  <a:srgbClr val="000000"/>
                </a:solidFill>
                <a:latin typeface="Arial"/>
                <a:cs typeface="BrowalliaUPC"/>
              </a:rPr>
              <a:t>พัฒนาระบบบริหารจัดการ และระบบบริการด้านสุขภาพให้มีคุณภาพมาตรฐา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Arial"/>
                <a:cs typeface="BrowalliaUPC"/>
              </a:rPr>
              <a:t>ในระบบหลักประกันสุขภาพ รวมทั้งส่งเสริมและพัฒนามาตรฐานการกำกั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Arial"/>
                <a:cs typeface="BrowalliaUPC"/>
              </a:rPr>
              <a:t>สถานบริการด้านสุขภาพทั้งภาครัฐและภาคเอกชนให้มีคุณ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Arial"/>
                <a:cs typeface="BrowalliaUPC"/>
              </a:rPr>
              <a:t>มาตรฐานตามเกณฑ์ที่กำหนด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47120" y="2365200"/>
            <a:ext cx="2147760" cy="584280"/>
          </a:xfrm>
          <a:prstGeom prst="rect">
            <a:avLst/>
          </a:prstGeom>
          <a:gradFill rotWithShape="0">
            <a:gsLst>
              <a:gs pos="0">
                <a:srgbClr val="df4fe3">
                  <a:alpha val="90196"/>
                </a:srgbClr>
              </a:gs>
              <a:gs pos="50000">
                <a:srgbClr val="fefefe"/>
              </a:gs>
              <a:gs pos="100000">
                <a:srgbClr val="df4fe3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3280" rIns="53280" tIns="26640" bIns="26640" anchor="ctr">
            <a:noAutofit/>
          </a:bodyPr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1 </a:t>
            </a: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สริมสร้างระบบการเฝ้าระวัง ควบคุม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้องกัน  บำบัด  รักษาและฟื้นฟูสภาพของประชาชนผู้เส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ผู้ติดยาเสพติดให้มีประสิทธิภาพและยั่งยื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9160" y="3160800"/>
            <a:ext cx="1096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82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เป้าหมายการให้บริการหน่วยงา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281240" y="3068640"/>
            <a:ext cx="2205000" cy="50328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สุขภาพแล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ประกอบการธุรกิจบริการสุขภาพมีคุณภาพตามมาตรฐา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504,273,1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4520" y="3068640"/>
            <a:ext cx="1513080" cy="501480"/>
          </a:xfrm>
          <a:prstGeom prst="roundRect">
            <a:avLst>
              <a:gd name="adj" fmla="val 7579"/>
            </a:avLst>
          </a:prstGeom>
          <a:gradFill rotWithShape="0">
            <a:gsLst>
              <a:gs pos="0">
                <a:srgbClr val="ff9933"/>
              </a:gs>
              <a:gs pos="100000">
                <a:srgbClr val="fefbf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ู้บริโภครับรู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ิทธิประโยชน์ในการคุ้มครองด้านบริการ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9,783,4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91200" y="3070080"/>
            <a:ext cx="1469880" cy="503280"/>
          </a:xfrm>
          <a:prstGeom prst="roundRect">
            <a:avLst>
              <a:gd name="adj" fmla="val 7657"/>
            </a:avLst>
          </a:prstGeom>
          <a:gradFill rotWithShape="0">
            <a:gsLst>
              <a:gs pos="0">
                <a:srgbClr val="cc99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 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มีความรู้ที่จำเป็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พฤติกรรมที่ถูกต้องในการดูแล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67,292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5600" y="3070080"/>
            <a:ext cx="1427400" cy="503280"/>
          </a:xfrm>
          <a:prstGeom prst="roundRect">
            <a:avLst>
              <a:gd name="adj" fmla="val 7657"/>
            </a:avLst>
          </a:prstGeom>
          <a:gradFill rotWithShape="0">
            <a:gsLst>
              <a:gs pos="0">
                <a:srgbClr val="cc99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ีเครือข่ายมีส่วนร่ว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การจัดกิจกรรมด้าน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32,377,8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01160" y="3070080"/>
            <a:ext cx="1546200" cy="503280"/>
          </a:xfrm>
          <a:prstGeom prst="roundRect">
            <a:avLst>
              <a:gd name="adj" fmla="val 14704"/>
            </a:avLst>
          </a:prstGeom>
          <a:gradFill rotWithShape="0">
            <a:gsLst>
              <a:gs pos="0">
                <a:srgbClr val="df4fe3"/>
              </a:gs>
              <a:gs pos="50000">
                <a:srgbClr val="ffffff"/>
              </a:gs>
              <a:gs pos="100000">
                <a:srgbClr val="df4f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ีระบบรายงานข้อมูลผู้บำบัดรักษายาเสพติด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4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8,177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200" y="3860640"/>
            <a:ext cx="6969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กลยุทธ์กร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49240" y="3645000"/>
            <a:ext cx="1366920" cy="64764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ระบบบริการสุขภาพให้ได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ุณภาพมาตรฐาน ด้านบริหารจัดการ แล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 ด้านอาคารสถานที่แล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้านวิศวกรรมการแพทย์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360,950,9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78080" y="3645000"/>
            <a:ext cx="1224000" cy="64764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จัดตั้งและพัฒนากลไกร่วมระหว่า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รัฐและเอกชนในการส่งเสริ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สนับสนุนธุรกิจบริการสุขภาพให้ม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ุณภาพตามมาตรฐานอย่างยั่งยื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22,224,2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4520" y="3645000"/>
            <a:ext cx="1081080" cy="647640"/>
          </a:xfrm>
          <a:prstGeom prst="roundRect">
            <a:avLst>
              <a:gd name="adj" fmla="val 0"/>
            </a:avLst>
          </a:prstGeom>
          <a:blipFill rotWithShape="0">
            <a:blip r:embed="rId3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องค์ความรู้แล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ทคโนโลยีด้านระบบบริการ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ศึกษา และ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ประชาช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21,098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37240" y="3645000"/>
            <a:ext cx="936360" cy="64764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ศักยภาพและถ่ายทอด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ิทธิประโยชน์เพื่อให้ผู้บริโภค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ด้รับการคุ้มครอ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9,783,4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45240" y="3645000"/>
            <a:ext cx="1079280" cy="647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" rIns="1080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สริมสร้างจิตสำนึก ความรู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ทักษะที่จำเป็นแก่ประชาช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้มีพฤติกรรม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ที่เหมาะส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67,292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65920" y="3624120"/>
            <a:ext cx="1228680" cy="695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" rIns="1080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สนับสนุนภาคีเครือข่า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การดำเนินกิจกรรมด้าน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32,377,8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174160" y="3624120"/>
            <a:ext cx="1504800" cy="679680"/>
          </a:xfrm>
          <a:prstGeom prst="rect">
            <a:avLst/>
          </a:prstGeom>
          <a:gradFill rotWithShape="0">
            <a:gsLst>
              <a:gs pos="0">
                <a:srgbClr val="df4fe3">
                  <a:alpha val="90196"/>
                </a:srgbClr>
              </a:gs>
              <a:gs pos="50000">
                <a:srgbClr val="fefefe"/>
              </a:gs>
              <a:gs pos="100000">
                <a:srgbClr val="df4fe3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3280" rIns="53280" tIns="26640" bIns="26640" anchor="ctr">
            <a:noAutofit/>
          </a:bodyPr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พัฒนาระบ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ายงานข้อมูลผู้บำบัดรักษ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าเสพติด 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8,177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80" y="4365720"/>
            <a:ext cx="647640" cy="796680"/>
          </a:xfrm>
          <a:custGeom>
            <a:avLst/>
            <a:gdLst>
              <a:gd name="textAreaLeft" fmla="*/ 0 w 647640"/>
              <a:gd name="textAreaRight" fmla="*/ 648000 w 64764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21600" h="26568">
                <a:moveTo>
                  <a:pt x="0" y="0"/>
                </a:moveTo>
                <a:arcTo wR="0" hR="0" stAng="16200000" swAng="-5400000"/>
                <a:lnTo>
                  <a:pt x="0" y="26568"/>
                </a:lnTo>
                <a:arcTo wR="0" hR="0" stAng="10800000" swAng="-5400000"/>
                <a:lnTo>
                  <a:pt x="21600" y="2656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งานการส่งเสริ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และควบคุ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คุณภาพมาตรฐา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ใ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สุขภาพ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รัฐและเอกช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13,169,4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24160" y="4365720"/>
            <a:ext cx="649080" cy="796680"/>
          </a:xfrm>
          <a:custGeom>
            <a:avLst/>
            <a:gdLst>
              <a:gd name="textAreaLeft" fmla="*/ 0 w 649080"/>
              <a:gd name="textAreaRight" fmla="*/ 649440 w 649080"/>
              <a:gd name="textAreaTop" fmla="*/ 0 h 796680"/>
              <a:gd name="textAreaBottom" fmla="*/ 796680 h 796680"/>
            </a:gdLst>
            <a:ahLst/>
            <a:rect l="textAreaLeft" t="textAreaTop" r="textAreaRight" b="textAreaBottom"/>
            <a:pathLst>
              <a:path w="21600" h="26509">
                <a:moveTo>
                  <a:pt x="0" y="0"/>
                </a:moveTo>
                <a:arcTo wR="0" hR="0" stAng="16200000" swAng="-5400000"/>
                <a:lnTo>
                  <a:pt x="0" y="26509"/>
                </a:lnTo>
                <a:arcTo wR="0" hR="0" stAng="10800000" swAng="-5400000"/>
                <a:lnTo>
                  <a:pt x="21600" y="2650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งานการส่งเสริ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และควบคุ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คุณภาพ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ด้านอาคาร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ที่ใ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ภาครัฐ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90,361,2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44880" y="4365720"/>
            <a:ext cx="636480" cy="796680"/>
          </a:xfrm>
          <a:custGeom>
            <a:avLst/>
            <a:gdLst>
              <a:gd name="textAreaLeft" fmla="*/ 0 w 636480"/>
              <a:gd name="textAreaRight" fmla="*/ 636840 w 636480"/>
              <a:gd name="textAreaTop" fmla="*/ 0 h 796680"/>
              <a:gd name="textAreaBottom" fmla="*/ 796680 h 796680"/>
            </a:gdLst>
            <a:ahLst/>
            <a:rect l="textAreaLeft" t="textAreaTop" r="textAreaRight" b="textAreaBottom"/>
            <a:pathLst>
              <a:path w="21600" h="27034">
                <a:moveTo>
                  <a:pt x="0" y="0"/>
                </a:moveTo>
                <a:arcTo wR="0" hR="0" stAng="16200000" swAng="-5400000"/>
                <a:lnTo>
                  <a:pt x="0" y="27034"/>
                </a:lnTo>
                <a:arcTo wR="0" hR="0" stAng="10800000" swAng="-5400000"/>
                <a:lnTo>
                  <a:pt x="21600" y="2703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.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งานการส่งเสริ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นับสนุน และพัฒน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ุณภาพตามมาตรฐา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้านวิศวกรรม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แพทย์ในสถา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ภาครัฐ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57,420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65600" y="4365720"/>
            <a:ext cx="647640" cy="796680"/>
          </a:xfrm>
          <a:custGeom>
            <a:avLst/>
            <a:gdLst>
              <a:gd name="textAreaLeft" fmla="*/ 0 w 647640"/>
              <a:gd name="textAreaRight" fmla="*/ 648000 w 64764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21600" h="26568">
                <a:moveTo>
                  <a:pt x="0" y="0"/>
                </a:moveTo>
                <a:arcTo wR="0" hR="0" stAng="16200000" swAng="-5400000"/>
                <a:lnTo>
                  <a:pt x="0" y="26568"/>
                </a:lnTo>
                <a:arcTo wR="0" hR="0" stAng="10800000" swAng="-5400000"/>
                <a:lnTo>
                  <a:pt x="21600" y="2656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ธุรกิจบริการสุขภาพ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ด้รับการส่งเสริมและ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นับสนุนให้มีคุณภาพ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มาตรฐา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22,224,2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4365720"/>
            <a:ext cx="863640" cy="79200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5.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งานการวิจัย พัฒนา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องค์ความรู้ และเทคโนโลยี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้านระบบริการสุขภาพ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ศึกษา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สุขภาพภาคประชาชน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21,098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92520" y="4365720"/>
            <a:ext cx="971640" cy="79200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 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ลงานการส่งเสริมคุ้มครอง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ู้บริโภคด้านบริการ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9,783,4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673600" y="4365720"/>
            <a:ext cx="1224000" cy="86364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และอาสาสมัค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าธารณสุขกลุ่มเป้าหมายได้รับกา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ถ่ายทอดความรู้ด้านสุขภาพเพื่อน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ไปสู่การปรับเปลี่ยนพฤติกรรม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67,292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969240" y="4365720"/>
            <a:ext cx="1109520" cy="79200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8.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ีเครือข่ายได้รับการ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และสนับสนุนให้ม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ิจกรรมด้าน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32,377,8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151840" y="4381560"/>
            <a:ext cx="1554120" cy="703080"/>
          </a:xfrm>
          <a:prstGeom prst="roundRect">
            <a:avLst>
              <a:gd name="adj" fmla="val 0"/>
            </a:avLst>
          </a:prstGeom>
          <a:noFill/>
          <a:ln w="1260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9.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บบรายงานข้อมูลผู้บำบัดรักษ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าเสพติดได้รับการปรับปรุงและพัฒนาเพื่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้ได้ข้อมูลที่มีคุณ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8,177,0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0520" y="5229360"/>
            <a:ext cx="863640" cy="48420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99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 พัฒนา ควบคุ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และประเมินคุณ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บริการสุขภาพใ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สุขภาพภาครัฐ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90,502,8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60520" y="5734080"/>
            <a:ext cx="863640" cy="50328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2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 พัฒนาและควบคุ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สถานบริการ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รัฐให้ได้คุณภาพมาตรฐา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งานสุขศึกษ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9,372,6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0520" y="6308640"/>
            <a:ext cx="863640" cy="43344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.3 </a:t>
            </a:r>
            <a:r>
              <a:rPr b="1" lang="th-TH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พัฒนา และ ควบคุ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สถานบริการ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เอกชนให้ได้คุณ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ตามที่กฎหมายกำหนด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3,294,000 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th-TH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96880" y="5229360"/>
            <a:ext cx="576360" cy="1514520"/>
          </a:xfrm>
          <a:custGeom>
            <a:avLst/>
            <a:gdLst>
              <a:gd name="textAreaLeft" fmla="*/ 0 w 576360"/>
              <a:gd name="textAreaRight" fmla="*/ 576720 w 576360"/>
              <a:gd name="textAreaTop" fmla="*/ 0 h 1514520"/>
              <a:gd name="textAreaBottom" fmla="*/ 1514880 h 1514520"/>
            </a:gdLst>
            <a:ahLst/>
            <a:rect l="textAreaLeft" t="textAreaTop" r="textAreaRight" b="textAreaBottom"/>
            <a:pathLst>
              <a:path w="21600" h="56737">
                <a:moveTo>
                  <a:pt x="0" y="0"/>
                </a:moveTo>
                <a:arcTo wR="0" hR="0" stAng="16200000" swAng="-5400000"/>
                <a:lnTo>
                  <a:pt x="0" y="56737"/>
                </a:lnTo>
                <a:arcTo wR="0" hR="0" stAng="10800000" swAng="-5400000"/>
                <a:lnTo>
                  <a:pt x="21600" y="567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สนับสนุ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ออกแบ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อาคารสถานที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สถานบริก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ภาพภาค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ัฐทุกระดั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43,140,2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44880" y="5229360"/>
            <a:ext cx="504720" cy="1514520"/>
          </a:xfrm>
          <a:custGeom>
            <a:avLst/>
            <a:gdLst>
              <a:gd name="textAreaLeft" fmla="*/ 0 w 504720"/>
              <a:gd name="textAreaRight" fmla="*/ 505080 w 504720"/>
              <a:gd name="textAreaTop" fmla="*/ 0 h 1514520"/>
              <a:gd name="textAreaBottom" fmla="*/ 1514520 h 1514520"/>
            </a:gdLst>
            <a:ahLst/>
            <a:rect l="textAreaLeft" t="textAreaTop" r="textAreaRight" b="textAreaBottom"/>
            <a:pathLst>
              <a:path w="21600" h="64785">
                <a:moveTo>
                  <a:pt x="0" y="0"/>
                </a:moveTo>
                <a:arcTo wR="0" hR="0" stAng="16200000" swAng="-5400000"/>
                <a:lnTo>
                  <a:pt x="0" y="64785"/>
                </a:lnTo>
                <a:arcTo wR="0" hR="0" stAng="10800000" swAng="-5400000"/>
                <a:lnTo>
                  <a:pt x="21600" y="6478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.2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วบคุ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แล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เมิ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ด้า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อาค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ที่ใ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รัฐทุก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ะดั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47,221,0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20880" y="5229360"/>
            <a:ext cx="503280" cy="1514520"/>
          </a:xfrm>
          <a:custGeom>
            <a:avLst/>
            <a:gdLst>
              <a:gd name="textAreaLeft" fmla="*/ 0 w 503280"/>
              <a:gd name="textAreaRight" fmla="*/ 503640 w 503280"/>
              <a:gd name="textAreaTop" fmla="*/ 0 h 1514520"/>
              <a:gd name="textAreaBottom" fmla="*/ 1514880 h 1514520"/>
            </a:gdLst>
            <a:ahLst/>
            <a:rect l="textAreaLeft" t="textAreaTop" r="textAreaRight" b="textAreaBottom"/>
            <a:pathLst>
              <a:path w="21600" h="64970">
                <a:moveTo>
                  <a:pt x="0" y="0"/>
                </a:moveTo>
                <a:arcTo wR="0" hR="0" stAng="16200000" swAng="-5400000"/>
                <a:lnTo>
                  <a:pt x="0" y="64970"/>
                </a:lnTo>
                <a:arcTo wR="0" hR="0" stAng="10800000" swAng="-5400000"/>
                <a:lnTo>
                  <a:pt x="21600" y="6497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นับสนุนแล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คุณ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าตรฐานด้า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วิศวกรร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ารแพทย์ใ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บริก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รัฐ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57,420,3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9600" y="5229360"/>
            <a:ext cx="792360" cy="69984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 พัฒนา และกำกั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ประกอบการเพื่อธุรกิ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 </a:t>
            </a: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3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เภ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ห้มีคุณภาพตามมาตรฐา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ที่กำหนด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8,173,9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9600" y="6021360"/>
            <a:ext cx="792360" cy="70812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4.2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และสนับสนุ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ถานพยาบาลภาคเอกช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มีคุณภาพตามมาตรฐานเป็นที่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อมรับของต่างประเทศ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4,050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5229360"/>
            <a:ext cx="576000" cy="1488960"/>
          </a:xfrm>
          <a:custGeom>
            <a:avLst/>
            <a:gdLst>
              <a:gd name="textAreaLeft" fmla="*/ 0 w 576000"/>
              <a:gd name="textAreaRight" fmla="*/ 576000 w 576000"/>
              <a:gd name="textAreaTop" fmla="*/ 0 h 1488960"/>
              <a:gd name="textAreaBottom" fmla="*/ 1489320 h 1488960"/>
            </a:gdLst>
            <a:ahLst/>
            <a:rect l="textAreaLeft" t="textAreaTop" r="textAreaRight" b="textAreaBottom"/>
            <a:pathLst>
              <a:path w="21600" h="55815">
                <a:moveTo>
                  <a:pt x="0" y="0"/>
                </a:moveTo>
                <a:arcTo wR="0" hR="0" stAng="16200000" swAng="-5400000"/>
                <a:lnTo>
                  <a:pt x="0" y="55815"/>
                </a:lnTo>
                <a:arcTo wR="0" hR="0" stAng="10800000" swAng="-5400000"/>
                <a:lnTo>
                  <a:pt x="21600" y="5581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5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ศึกษา วิเคราะห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วิจัย พัฒน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ูปแบบ เพื่อ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องค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วามรู้แล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ทคโนโลยี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้านระบ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ศึกษาแล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ุขภาพภาค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ชาช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121,098,0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37240" y="5229360"/>
            <a:ext cx="504720" cy="1512720"/>
          </a:xfrm>
          <a:custGeom>
            <a:avLst/>
            <a:gdLst>
              <a:gd name="textAreaLeft" fmla="*/ 0 w 504720"/>
              <a:gd name="textAreaRight" fmla="*/ 505080 w 50472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64708">
                <a:moveTo>
                  <a:pt x="0" y="0"/>
                </a:moveTo>
                <a:arcTo wR="0" hR="0" stAng="16200000" swAng="-5400000"/>
                <a:lnTo>
                  <a:pt x="0" y="64708"/>
                </a:lnTo>
                <a:arcTo wR="0" hR="0" stAng="10800000" swAng="-5400000"/>
                <a:lnTo>
                  <a:pt x="21600" y="6470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1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ก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ับรู้สิทธิประโยชน์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ด้านบริการ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สร้างเครือข่าย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ุ้มครอง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ริการสุขภาพ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 4,511,5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13240" y="5229360"/>
            <a:ext cx="432000" cy="1512720"/>
          </a:xfrm>
          <a:custGeom>
            <a:avLst/>
            <a:gdLst>
              <a:gd name="textAreaLeft" fmla="*/ 0 w 432000"/>
              <a:gd name="textAreaRight" fmla="*/ 432360 w 43200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75591">
                <a:moveTo>
                  <a:pt x="0" y="0"/>
                </a:moveTo>
                <a:arcTo wR="0" hR="0" stAng="16200000" swAng="-5400000"/>
                <a:lnTo>
                  <a:pt x="0" y="75591"/>
                </a:lnTo>
                <a:arcTo wR="0" hR="0" stAng="10800000" swAng="-5400000"/>
                <a:lnTo>
                  <a:pt x="21600" y="7559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2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ับปรุง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ก้ไขกฎหมาย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เฝ้าระวัง และ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ับเรื่องร้องเรียน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4,173,3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16520" y="5300640"/>
            <a:ext cx="505080" cy="1417680"/>
          </a:xfrm>
          <a:custGeom>
            <a:avLst/>
            <a:gdLst>
              <a:gd name="textAreaLeft" fmla="*/ 0 w 505080"/>
              <a:gd name="textAreaRight" fmla="*/ 505440 w 505080"/>
              <a:gd name="textAreaTop" fmla="*/ 0 h 1417680"/>
              <a:gd name="textAreaBottom" fmla="*/ 1417680 h 1417680"/>
            </a:gdLst>
            <a:ahLst/>
            <a:rect l="textAreaLeft" t="textAreaTop" r="textAreaRight" b="textAreaBottom"/>
            <a:pathLst>
              <a:path w="21600" h="60600">
                <a:moveTo>
                  <a:pt x="0" y="0"/>
                </a:moveTo>
                <a:arcTo wR="0" hR="0" stAng="16200000" swAng="-5400000"/>
                <a:lnTo>
                  <a:pt x="0" y="60600"/>
                </a:lnTo>
                <a:arcTo wR="0" hR="0" stAng="10800000" swAng="-5400000"/>
                <a:lnTo>
                  <a:pt x="21600" y="6060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6.3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ควบคุม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ำกับ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6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ประกอบการ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1,098,600 </a:t>
            </a:r>
            <a:r>
              <a:rPr b="1" lang="hi-IN" sz="7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7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392880" y="5300640"/>
            <a:ext cx="1081080" cy="93492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7.1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ถ่ายทอดความรู้ด้าน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ู่อาสาสมัครสาธารณสุข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ีเครือข่า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ชุมชนและประชาช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67,292,3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45240" y="5229360"/>
            <a:ext cx="885960" cy="934920"/>
          </a:xfrm>
          <a:custGeom>
            <a:avLst/>
            <a:gdLst>
              <a:gd name="textAreaLeft" fmla="*/ 0 w 885960"/>
              <a:gd name="textAreaRight" fmla="*/ 886320 w 88596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2793">
                <a:moveTo>
                  <a:pt x="0" y="0"/>
                </a:moveTo>
                <a:arcTo wR="0" hR="0" stAng="16200000" swAng="-5400000"/>
                <a:lnTo>
                  <a:pt x="0" y="22793"/>
                </a:lnTo>
                <a:arcTo wR="0" hR="0" stAng="10800000" swAng="-5400000"/>
                <a:lnTo>
                  <a:pt x="21600" y="2279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cap="rnd" w="1260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8.1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่งเสริมและสนับสนุ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ภาคีเครือข่า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ในการจัดกิจกรรมสุขภาพ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132,377,8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481960" y="5157720"/>
            <a:ext cx="1308240" cy="720720"/>
          </a:xfrm>
          <a:prstGeom prst="roundRect">
            <a:avLst>
              <a:gd name="adj" fmla="val 0"/>
            </a:avLst>
          </a:prstGeom>
          <a:noFill/>
          <a:ln cap="rnd" w="12600">
            <a:solidFill>
              <a:srgbClr val="ff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2760" rIns="32760" tIns="6480" bIns="648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9.1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พัฒนาระบบรายงานข้อมูล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ผู้บำบัดรักษ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าเสพติด  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(8,177,500 </a:t>
            </a:r>
            <a:r>
              <a:rPr b="1" lang="hi-IN" sz="8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</a:t>
            </a:r>
            <a:r>
              <a:rPr b="1" lang="en-US" sz="8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9200" y="4708440"/>
            <a:ext cx="554040" cy="2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ผลผลิต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8520" y="5516640"/>
            <a:ext cx="360360" cy="664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5800" rIns="55800" tIns="27720" bIns="277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กิ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hi-IN" sz="1000" spc="-1" strike="noStrike">
                <a:solidFill>
                  <a:srgbClr val="008000"/>
                </a:solidFill>
                <a:latin typeface="Browallia New"/>
                <a:cs typeface="Browallia New"/>
              </a:rPr>
              <a:t>กรรมหลั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92880" y="6308640"/>
            <a:ext cx="34560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3280" rIns="53280" tIns="26640" bIns="266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สรุปความเชื่อมโยงกรมสบส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และคำของบประมาณ ปี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551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ข้อมูล ณ วันที่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10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ก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.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ย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25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รวมงบประมาณที่ได้รับ </a:t>
            </a:r>
            <a:r>
              <a:rPr b="1" lang="th-TH" sz="1100" spc="-1" strike="noStrike" u="sng">
                <a:solidFill>
                  <a:srgbClr val="000000"/>
                </a:solidFill>
                <a:uFillTx/>
                <a:latin typeface="Browallia New"/>
                <a:ea typeface="Browallia New"/>
              </a:rPr>
              <a:t>731,903,600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ea typeface="Browallia New"/>
              </a:rPr>
              <a:t> </a:t>
            </a:r>
            <a:r>
              <a:rPr b="1" lang="th-TH" sz="10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บาท   </a:t>
            </a:r>
            <a:r>
              <a:rPr b="1" lang="th-TH" sz="900" spc="-1" strike="noStrike">
                <a:solidFill>
                  <a:srgbClr val="000000"/>
                </a:solidFill>
                <a:latin typeface="Browallia New"/>
                <a:cs typeface="Browallia New"/>
              </a:rPr>
              <a:t>จัดทำโดย กลุ่มนโยบายและแผน สำนักบริหาร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65600" y="162864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68880" y="162864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77240" y="162864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20880" y="220500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800000">
            <a:off x="4808520" y="2205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553600" y="2205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0700000">
            <a:off x="6105240" y="220464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800000">
            <a:off x="1856880" y="2924280"/>
            <a:ext cx="144720" cy="21564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700000">
            <a:off x="3728520" y="2923920"/>
            <a:ext cx="144720" cy="21564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20700000">
            <a:off x="5320800" y="2851200"/>
            <a:ext cx="144720" cy="288720"/>
          </a:xfrm>
          <a:prstGeom prst="downArrow">
            <a:avLst>
              <a:gd name="adj1" fmla="val 50000"/>
              <a:gd name="adj2" fmla="val 4987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700000">
            <a:off x="7257600" y="2923920"/>
            <a:ext cx="144720" cy="215640"/>
          </a:xfrm>
          <a:prstGeom prst="downArrow">
            <a:avLst>
              <a:gd name="adj1" fmla="val 50000"/>
              <a:gd name="adj2" fmla="val 3725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840880" y="285264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769240" y="422100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40880" y="350028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00000">
            <a:off x="1352520" y="3429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92520" y="3429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800000">
            <a:off x="3438000" y="3416400"/>
            <a:ext cx="228600" cy="296640"/>
          </a:xfrm>
          <a:prstGeom prst="downArrow">
            <a:avLst>
              <a:gd name="adj1" fmla="val 50000"/>
              <a:gd name="adj2" fmla="val 3244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0700000">
            <a:off x="4881240" y="3357720"/>
            <a:ext cx="142920" cy="287280"/>
          </a:xfrm>
          <a:prstGeom prst="downArrow">
            <a:avLst>
              <a:gd name="adj1" fmla="val 50000"/>
              <a:gd name="adj2" fmla="val 5025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21600" y="3429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400880" y="350028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00880" y="4221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4221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4520" y="4221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76880" y="4221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97240" y="422100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9240" y="4149720"/>
            <a:ext cx="144360" cy="216000"/>
          </a:xfrm>
          <a:prstGeom prst="downArrow">
            <a:avLst>
              <a:gd name="adj1" fmla="val 50000"/>
              <a:gd name="adj2" fmla="val 37406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57240" y="4221000"/>
            <a:ext cx="144720" cy="216000"/>
          </a:xfrm>
          <a:prstGeom prst="downArrow">
            <a:avLst>
              <a:gd name="adj1" fmla="val 50000"/>
              <a:gd name="adj2" fmla="val 37313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9800000">
            <a:off x="2144520" y="4149360"/>
            <a:ext cx="150480" cy="279360"/>
          </a:xfrm>
          <a:prstGeom prst="downArrow">
            <a:avLst>
              <a:gd name="adj1" fmla="val 50000"/>
              <a:gd name="adj2" fmla="val 46411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blinds dir="vert"/>
    <p:sndAc>
      <p:stSnd>
        <p:snd r:embed="rId5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04:13:28Z</dcterms:created>
  <dc:creator>นายน้องเล็ก</dc:creator>
  <dc:description/>
  <dc:language>en-US</dc:language>
  <cp:lastModifiedBy>Microsoft</cp:lastModifiedBy>
  <dcterms:modified xsi:type="dcterms:W3CDTF">2007-11-01T06:41:50Z</dcterms:modified>
  <cp:revision>215</cp:revision>
  <dc:subject/>
  <dc:title>ภาพนิ่ง 1</dc:title>
</cp:coreProperties>
</file>