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54D3-EE8A-44B7-BE08-F38437A60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39720"/>
            <a:ext cx="8553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079360"/>
            <a:ext cx="8553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336560"/>
            <a:ext cx="8553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7027-7CFB-4A0E-895A-9F32648B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39720"/>
            <a:ext cx="8553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079360"/>
            <a:ext cx="4173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079360"/>
            <a:ext cx="4173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336560"/>
            <a:ext cx="4173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336560"/>
            <a:ext cx="4173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C2A5-AC10-433B-9631-4180C5504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39720"/>
            <a:ext cx="8553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079360"/>
            <a:ext cx="2754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4640" y="2079360"/>
            <a:ext cx="2754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520" y="2079360"/>
            <a:ext cx="2754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336560"/>
            <a:ext cx="2754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4640" y="4336560"/>
            <a:ext cx="2754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520" y="4336560"/>
            <a:ext cx="2754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D60A-B509-4A71-A1C3-FD5D76BB9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39720"/>
            <a:ext cx="8553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079360"/>
            <a:ext cx="8553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AE4B-DC14-4495-AEAE-B3B1DD2B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39720"/>
            <a:ext cx="8553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079360"/>
            <a:ext cx="8553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06A2-9D5D-48CC-9797-2AE3A6E2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39720"/>
            <a:ext cx="8553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079360"/>
            <a:ext cx="41738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079360"/>
            <a:ext cx="41738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B22F-0EBC-4A79-A9E5-912A86F2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39720"/>
            <a:ext cx="8553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8050-DC1D-4DB1-9E1A-7404E5AA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39720"/>
            <a:ext cx="8553600" cy="55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8B8F-2DFF-40B3-806D-FE6232F4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39720"/>
            <a:ext cx="8553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079360"/>
            <a:ext cx="4173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079360"/>
            <a:ext cx="41738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336560"/>
            <a:ext cx="4173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F173-38BB-466C-990D-8875F3EA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39720"/>
            <a:ext cx="8553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079360"/>
            <a:ext cx="41738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079360"/>
            <a:ext cx="4173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336560"/>
            <a:ext cx="4173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7F3A-E845-4BFA-8783-8103DA0C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39720"/>
            <a:ext cx="8553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079360"/>
            <a:ext cx="4173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079360"/>
            <a:ext cx="4173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336560"/>
            <a:ext cx="8553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D284-09EB-47F5-AD0D-6CFCF5F3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39720"/>
            <a:ext cx="8553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079360"/>
            <a:ext cx="8553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040" y="6561000"/>
            <a:ext cx="20955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8360" y="6561000"/>
            <a:ext cx="318168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10080" y="6561000"/>
            <a:ext cx="20955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F462-6CD5-4445-9D01-13D0F058B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292480" y="0"/>
            <a:ext cx="525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ผัง</a:t>
            </a:r>
            <a:r>
              <a:rPr b="1" lang="en-US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ความเช</a:t>
            </a:r>
            <a:r>
              <a:rPr b="1" lang="th-TH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ื่</a:t>
            </a:r>
            <a:r>
              <a:rPr b="1" lang="en-US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อมโยงแผนป</a:t>
            </a:r>
            <a:r>
              <a:rPr b="1" lang="th-TH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ฏิ</a:t>
            </a:r>
            <a:r>
              <a:rPr b="1" lang="en-US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บัติราชการ</a:t>
            </a:r>
            <a:r>
              <a:rPr b="1" lang="th-TH" sz="14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4 </a:t>
            </a:r>
            <a:r>
              <a:rPr b="1" lang="en-US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ปี </a:t>
            </a:r>
            <a:r>
              <a:rPr b="1" lang="th-TH" sz="14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พ</a:t>
            </a:r>
            <a:r>
              <a:rPr b="1" lang="en-US" sz="14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ศ</a:t>
            </a:r>
            <a:r>
              <a:rPr b="1" lang="en-US" sz="14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. 2555 – 2558</a:t>
            </a:r>
            <a:r>
              <a:rPr b="1" lang="th-TH" sz="14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ของกรมสนับสนุนบริการสุขภา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0" y="249120"/>
            <a:ext cx="730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นโยบาย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รัฐบาล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879480"/>
            <a:ext cx="565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นโยบายย่อยของรัฐบาล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0" y="2470320"/>
            <a:ext cx="636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เป้าประสงค์เชิงนโยบายรัฐบาล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7765920" y="936720"/>
            <a:ext cx="1944720" cy="187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4.3.7 </a:t>
            </a:r>
            <a:r>
              <a:rPr b="0" lang="hi-IN" sz="9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ขับเคลื่อนให้ประเทศไทยเป็นเลิศในผลิตภัณฑ์และการบริการด้านสุขภาพและการรักษาพยาบาลในภูมิภาคเอเชีย โดยประสานความร่วมมือกับทุกภาคส่วนที่เกี่ยวข้องในการสร้างความก้าวหน้าในทางวิชาการ และไม่ก่อให้เกิดผลกระทบกับบริการสุขภาพโดยรวมของคนไทย สนับสนุนเอกชนให้จัดบริการศูนย์พักฟื้นผู้ป่วยที่มีมาตรฐาน รวมทั้งแก้ไขปรับปรุงกฎระเบียบที่เกี่ยวข้องเพื่อให้มีการใช้บุคลากรทางการแพทย์ร่วมกันระหว่างภาครัฐและเอกชนให้เอื้ออำนวยต่อการดำเนินงา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925560" y="2583000"/>
            <a:ext cx="1942920" cy="50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ประชาชนมีหลักประกันสุขภาพอย่างครอบคลุม มีคุณภาพ และมีโอกาสเข้าถึงบริการได้อย่างเท่าเทียมกั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1068480" y="5184720"/>
            <a:ext cx="36003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1.</a:t>
            </a:r>
            <a:r>
              <a:rPr b="0" lang="hi-IN" sz="12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ประชาชนมีพฤติกรรมสุขภาพที่ถูกต้อง และอยู่ในสภาพแวดล้อมที่เหมาะสม  สามารถลดภาวะโรคและภัยคุกคาม ตลอดจนได้รับการคุ้มครองผู้บริโภคด้านสุขภา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6535800" y="720720"/>
            <a:ext cx="1093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23"/>
          <p:cNvSpPr/>
          <p:nvPr/>
        </p:nvSpPr>
        <p:spPr>
          <a:xfrm>
            <a:off x="0" y="28728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24"/>
          <p:cNvSpPr/>
          <p:nvPr/>
        </p:nvSpPr>
        <p:spPr>
          <a:xfrm>
            <a:off x="0" y="72072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5605560" y="5184720"/>
            <a:ext cx="40320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2.</a:t>
            </a:r>
            <a:r>
              <a:rPr b="0" lang="hi-IN" sz="12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ประชาชนได้รับบริการสุขภาพทั้งในภาวะปกติและภาวะฉุกเฉินที่มีคุณภาพมาตรฐานอย่างทั่วถึงและเป็นธรร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30"/>
          <p:cNvSpPr/>
          <p:nvPr/>
        </p:nvSpPr>
        <p:spPr>
          <a:xfrm flipH="1">
            <a:off x="533520" y="287280"/>
            <a:ext cx="31680" cy="691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31"/>
          <p:cNvSpPr/>
          <p:nvPr/>
        </p:nvSpPr>
        <p:spPr>
          <a:xfrm>
            <a:off x="0" y="244800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33"/>
          <p:cNvSpPr/>
          <p:nvPr/>
        </p:nvSpPr>
        <p:spPr>
          <a:xfrm>
            <a:off x="0" y="316872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39"/>
          <p:cNvSpPr/>
          <p:nvPr/>
        </p:nvSpPr>
        <p:spPr>
          <a:xfrm>
            <a:off x="10058400" y="0"/>
            <a:ext cx="0" cy="720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40"/>
          <p:cNvSpPr/>
          <p:nvPr/>
        </p:nvSpPr>
        <p:spPr>
          <a:xfrm>
            <a:off x="0" y="320760"/>
            <a:ext cx="0" cy="688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41"/>
          <p:cNvSpPr/>
          <p:nvPr/>
        </p:nvSpPr>
        <p:spPr>
          <a:xfrm>
            <a:off x="0" y="239760"/>
            <a:ext cx="0" cy="696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42"/>
          <p:cNvSpPr/>
          <p:nvPr/>
        </p:nvSpPr>
        <p:spPr>
          <a:xfrm>
            <a:off x="0" y="720108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43"/>
          <p:cNvSpPr/>
          <p:nvPr/>
        </p:nvSpPr>
        <p:spPr>
          <a:xfrm>
            <a:off x="1644480" y="2305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6"/>
          <p:cNvSpPr/>
          <p:nvPr/>
        </p:nvSpPr>
        <p:spPr>
          <a:xfrm>
            <a:off x="5029200" y="3816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49"/>
          <p:cNvSpPr/>
          <p:nvPr/>
        </p:nvSpPr>
        <p:spPr>
          <a:xfrm>
            <a:off x="60480" y="4176720"/>
            <a:ext cx="9997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7"/>
          <p:cNvSpPr/>
          <p:nvPr/>
        </p:nvSpPr>
        <p:spPr>
          <a:xfrm>
            <a:off x="615960" y="5778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6"/>
          <p:cNvSpPr/>
          <p:nvPr/>
        </p:nvSpPr>
        <p:spPr>
          <a:xfrm>
            <a:off x="-84240" y="6022800"/>
            <a:ext cx="70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ยุทธศาสตร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ระทรว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5"/>
          <p:cNvSpPr/>
          <p:nvPr/>
        </p:nvSpPr>
        <p:spPr>
          <a:xfrm>
            <a:off x="-92160" y="32576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86"/>
          <p:cNvSpPr/>
          <p:nvPr/>
        </p:nvSpPr>
        <p:spPr>
          <a:xfrm>
            <a:off x="-49320" y="4249800"/>
            <a:ext cx="685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ประเด็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ยุทธศาสตร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กระทรว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91"/>
          <p:cNvSpPr/>
          <p:nvPr/>
        </p:nvSpPr>
        <p:spPr>
          <a:xfrm>
            <a:off x="7045200" y="3816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8"/>
          <p:cNvSpPr/>
          <p:nvPr/>
        </p:nvSpPr>
        <p:spPr>
          <a:xfrm>
            <a:off x="9277200" y="381636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15"/>
          <p:cNvSpPr/>
          <p:nvPr/>
        </p:nvSpPr>
        <p:spPr>
          <a:xfrm>
            <a:off x="5389560" y="1881360"/>
            <a:ext cx="863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25"/>
          <p:cNvSpPr/>
          <p:nvPr/>
        </p:nvSpPr>
        <p:spPr>
          <a:xfrm>
            <a:off x="8485200" y="2305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26"/>
          <p:cNvSpPr/>
          <p:nvPr/>
        </p:nvSpPr>
        <p:spPr>
          <a:xfrm>
            <a:off x="0" y="504036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28"/>
          <p:cNvSpPr/>
          <p:nvPr/>
        </p:nvSpPr>
        <p:spPr>
          <a:xfrm>
            <a:off x="2076480" y="4464000"/>
            <a:ext cx="68403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เสริมสร้างระบบสุขภาพให้มีคุณภาพและมาตรฐานเพื่อให้ประชาชนมีสุขภาพด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33"/>
          <p:cNvSpPr/>
          <p:nvPr/>
        </p:nvSpPr>
        <p:spPr>
          <a:xfrm>
            <a:off x="636480" y="6121440"/>
            <a:ext cx="295272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1. </a:t>
            </a:r>
            <a:r>
              <a:rPr b="0" lang="th-TH" sz="10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เสริมสร้างให้ประชาชนมีพฤติกรรมสุขภาพที่ถูกต้อง เหมาะสม และพัฒนาการส่งเสริมสุขภาพ ระบบเฝ้าระวัง ป้องกัน ควบคุมโรค ภัยสุขภาพ การฟื้นฟูสมรรถภาพและการคุ้มครองผู้บริโภคด้านสุขภาพให้มีประสิทธิภาพ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37"/>
          <p:cNvSpPr/>
          <p:nvPr/>
        </p:nvSpPr>
        <p:spPr>
          <a:xfrm>
            <a:off x="3373560" y="67690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42"/>
          <p:cNvSpPr/>
          <p:nvPr/>
        </p:nvSpPr>
        <p:spPr>
          <a:xfrm>
            <a:off x="7693200" y="568800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43"/>
          <p:cNvSpPr/>
          <p:nvPr/>
        </p:nvSpPr>
        <p:spPr>
          <a:xfrm>
            <a:off x="9132840" y="30956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44"/>
          <p:cNvSpPr/>
          <p:nvPr/>
        </p:nvSpPr>
        <p:spPr>
          <a:xfrm>
            <a:off x="1860480" y="597708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52"/>
          <p:cNvSpPr/>
          <p:nvPr/>
        </p:nvSpPr>
        <p:spPr>
          <a:xfrm>
            <a:off x="1357200" y="424800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54"/>
          <p:cNvSpPr/>
          <p:nvPr/>
        </p:nvSpPr>
        <p:spPr>
          <a:xfrm>
            <a:off x="7693200" y="4896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58"/>
          <p:cNvSpPr/>
          <p:nvPr/>
        </p:nvSpPr>
        <p:spPr>
          <a:xfrm>
            <a:off x="2652840" y="4896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60"/>
          <p:cNvSpPr/>
          <p:nvPr/>
        </p:nvSpPr>
        <p:spPr>
          <a:xfrm>
            <a:off x="5316480" y="4248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63"/>
          <p:cNvSpPr/>
          <p:nvPr/>
        </p:nvSpPr>
        <p:spPr>
          <a:xfrm>
            <a:off x="1860480" y="59770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65"/>
          <p:cNvSpPr/>
          <p:nvPr/>
        </p:nvSpPr>
        <p:spPr>
          <a:xfrm>
            <a:off x="2652840" y="5688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70"/>
          <p:cNvSpPr/>
          <p:nvPr/>
        </p:nvSpPr>
        <p:spPr>
          <a:xfrm>
            <a:off x="1357200" y="3816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75"/>
          <p:cNvSpPr/>
          <p:nvPr/>
        </p:nvSpPr>
        <p:spPr>
          <a:xfrm>
            <a:off x="0" y="583236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77"/>
          <p:cNvSpPr/>
          <p:nvPr/>
        </p:nvSpPr>
        <p:spPr>
          <a:xfrm>
            <a:off x="5316480" y="4753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80"/>
          <p:cNvSpPr/>
          <p:nvPr/>
        </p:nvSpPr>
        <p:spPr>
          <a:xfrm>
            <a:off x="708120" y="936720"/>
            <a:ext cx="2665440" cy="187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4.3.1 </a:t>
            </a:r>
            <a:r>
              <a:rPr b="0" lang="th-TH" sz="9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ลงทุนด้านบริการสุขภาพ โดยการพัฒนาคุณภาพการให้บริการสุขภาพทั้งระบบอย่างมีบูรณาการเชื่อมโยงในทุกระดับ จัดให้มีระบบสารสนเทศทางสาธารณสุขที่มีประสิทธิภาพ และเร่งผลิตบุคลากรทางการแพทย์และสาธารณสุข ให้เพียงพอกับปริมาณงานที่เพิ่มขึ้นตามข้อเท็จจริงในปัจจุบัน เพิ่มขีดความสามารถของโรงพยาบาลระดับต่าง ๆ โดยเฉพาะโรงพยาบาลศูนย์ความเป็นเลิศที่กระจายอยู่ในส่วนภูมิภาค และมีระบบการส่งต่อผู้ป่วยไปสู่โรงพยาบาลต่าง ๆ อย่างมีประสิทธิภาพ รวมทั้งสนับสนุนให้โรงพยาบาลในระดับต่าง ๆ มีเครื่องมืออุปกรณ์ทางการแพทย์และห้องปฏิบัติการวิทยาศาสตร์การแพทย์ที่ทันสมัย รวมทั้งพัฒนาสถานบริการปฐมภูมิในเขตเมืองและชนบทที่สมบูรณ์แบบทั่วประเทศ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85"/>
          <p:cNvSpPr/>
          <p:nvPr/>
        </p:nvSpPr>
        <p:spPr>
          <a:xfrm>
            <a:off x="0" y="3240000"/>
            <a:ext cx="56520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กลยุทธ์</a:t>
            </a:r>
            <a:r>
              <a:rPr b="1" lang="en-US" sz="11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วิธีการรัฐบาล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86"/>
          <p:cNvSpPr/>
          <p:nvPr/>
        </p:nvSpPr>
        <p:spPr>
          <a:xfrm>
            <a:off x="636480" y="3314880"/>
            <a:ext cx="1728720" cy="7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H SarabunIT๙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พัฒนาระบบบริการสุขภาพ คุณภาพการให้บริการ ศักยภาพของสถานพยาบาล และเทคโนโลยีทางการแพทย์ในการจัดบริการทุกระดับ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87"/>
          <p:cNvSpPr/>
          <p:nvPr/>
        </p:nvSpPr>
        <p:spPr>
          <a:xfrm>
            <a:off x="4452840" y="3313080"/>
            <a:ext cx="1944720" cy="7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- </a:t>
            </a:r>
            <a:r>
              <a:rPr b="0" lang="th-TH" sz="9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พัฒนาขีดความสามารถของอาสาสมัครสาธารณสุข </a:t>
            </a:r>
            <a:r>
              <a:rPr b="0" lang="th-TH" sz="9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(</a:t>
            </a:r>
            <a:r>
              <a:rPr b="0" lang="th-TH" sz="9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อสม</a:t>
            </a:r>
            <a:r>
              <a:rPr b="0" lang="th-TH" sz="9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.) </a:t>
            </a:r>
            <a:r>
              <a:rPr b="0" lang="th-TH" sz="9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ในการดำเนินกิจกรรมด้านสุขภาพ และสร้างเสริมเครือข่ายในการพัฒนาและแก้ไขปัญหาสาธารณสุขชุมชน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88"/>
          <p:cNvSpPr/>
          <p:nvPr/>
        </p:nvSpPr>
        <p:spPr>
          <a:xfrm>
            <a:off x="6684840" y="3313080"/>
            <a:ext cx="1440000" cy="7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H SarabunIT๙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พัฒนาคุณภาพผลิตภัณฑ์ยารักษาโรค วัคซีน สถานประกอบการธุรกิจบริการสุขภาพ บุคลากร และผลิตภัณฑ์สุขภาพ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89"/>
          <p:cNvSpPr/>
          <p:nvPr/>
        </p:nvSpPr>
        <p:spPr>
          <a:xfrm>
            <a:off x="8413920" y="3313080"/>
            <a:ext cx="1368360" cy="7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H SarabunIT๙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 </a:t>
            </a:r>
            <a:r>
              <a:rPr b="0" lang="hi-IN" sz="9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พัฒนากลไกควบคุมมาตรฐานบริการ</a:t>
            </a:r>
            <a:r>
              <a:rPr b="0" lang="en-US" sz="9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/</a:t>
            </a:r>
            <a:r>
              <a:rPr b="0" lang="hi-IN" sz="9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ผลิตภัณฑ์และส่งเสริมมาตรฐานการผลิตผลิตภัณฑ์และการบริการสุขภาพ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92"/>
          <p:cNvSpPr/>
          <p:nvPr/>
        </p:nvSpPr>
        <p:spPr>
          <a:xfrm>
            <a:off x="1644480" y="2952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95"/>
          <p:cNvSpPr/>
          <p:nvPr/>
        </p:nvSpPr>
        <p:spPr>
          <a:xfrm>
            <a:off x="8485200" y="2952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96"/>
          <p:cNvSpPr/>
          <p:nvPr/>
        </p:nvSpPr>
        <p:spPr>
          <a:xfrm>
            <a:off x="7405560" y="30956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07"/>
          <p:cNvSpPr/>
          <p:nvPr/>
        </p:nvSpPr>
        <p:spPr>
          <a:xfrm>
            <a:off x="-71280" y="5040360"/>
            <a:ext cx="70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เป้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ประสงค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กระทรว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09"/>
          <p:cNvSpPr/>
          <p:nvPr/>
        </p:nvSpPr>
        <p:spPr>
          <a:xfrm>
            <a:off x="2652840" y="489600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10"/>
          <p:cNvSpPr/>
          <p:nvPr/>
        </p:nvSpPr>
        <p:spPr>
          <a:xfrm>
            <a:off x="3805200" y="6121440"/>
            <a:ext cx="266400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2. </a:t>
            </a:r>
            <a:r>
              <a:rPr b="0" lang="th-TH" sz="10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พัฒนาศักยภาพของอาสาสมัครสาธารณสุข ภาคีเครือข่ายและองค์กรปกครองส่วนท้องถิ่นในการดำเนินกิจกรรมด้านสุขภาพ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11"/>
          <p:cNvSpPr/>
          <p:nvPr/>
        </p:nvSpPr>
        <p:spPr>
          <a:xfrm>
            <a:off x="6613560" y="6121440"/>
            <a:ext cx="273672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3.</a:t>
            </a:r>
            <a:r>
              <a:rPr b="0" lang="th-TH" sz="10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พัฒนาระบบบริหารและระบบบริการทางการแพทย์และสาธารณสุข ทั้งภาวะปกติและภาวะฉุกเฉิน รวมทั้งผลิตบุคลากรด้านการแพทย์และสาธารณสุขให้เพียงพอ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215"/>
          <p:cNvSpPr/>
          <p:nvPr/>
        </p:nvSpPr>
        <p:spPr>
          <a:xfrm>
            <a:off x="1860480" y="669600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16"/>
          <p:cNvSpPr/>
          <p:nvPr/>
        </p:nvSpPr>
        <p:spPr>
          <a:xfrm>
            <a:off x="1860480" y="676908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218"/>
          <p:cNvSpPr/>
          <p:nvPr/>
        </p:nvSpPr>
        <p:spPr>
          <a:xfrm>
            <a:off x="2149560" y="792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219"/>
          <p:cNvSpPr/>
          <p:nvPr/>
        </p:nvSpPr>
        <p:spPr>
          <a:xfrm>
            <a:off x="2149560" y="792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21"/>
          <p:cNvSpPr/>
          <p:nvPr/>
        </p:nvSpPr>
        <p:spPr>
          <a:xfrm>
            <a:off x="4021200" y="360360"/>
            <a:ext cx="25099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4.3 </a:t>
            </a:r>
            <a:r>
              <a:rPr b="1" lang="hi-IN" sz="12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นโยบายการพัฒนาสุขภาพของประชาช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223"/>
          <p:cNvSpPr/>
          <p:nvPr/>
        </p:nvSpPr>
        <p:spPr>
          <a:xfrm>
            <a:off x="8485200" y="7920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31"/>
          <p:cNvSpPr/>
          <p:nvPr/>
        </p:nvSpPr>
        <p:spPr>
          <a:xfrm>
            <a:off x="4524480" y="67690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32"/>
          <p:cNvSpPr/>
          <p:nvPr/>
        </p:nvSpPr>
        <p:spPr>
          <a:xfrm>
            <a:off x="5821200" y="936720"/>
            <a:ext cx="1729080" cy="187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4.3.4 </a:t>
            </a:r>
            <a:r>
              <a:rPr b="0" lang="hi-IN" sz="9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พัฒนาขีดความสามารถของอาสาสมัครสาธารณสุขทุกคนให้เป็นนักจัดการสุขภาพชุมชน ขยายความครอบคลุมไปถึงกลุ่มผู้ด้อยโอกาส สนับสนุนอุปกรณ์พื้นฐานที่จำเป็นเพื่อให้สามารถเป็นกำลังสำคัญในการดูแลสุขภาพของคนในชุมชน พัฒนาแกนนำสุขภาพครอบครัวและการสาธารณสุขมูลฐาน ที่ชุมชน ท้องถิ่น     มีส่วนร่วมในการสร้างเสริมสุขภาพและจัดการปัญหาสุขภาพของตนเองได้อย่างเข้มแข็งและยั่งยืน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234"/>
          <p:cNvSpPr/>
          <p:nvPr/>
        </p:nvSpPr>
        <p:spPr>
          <a:xfrm>
            <a:off x="7405560" y="3095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235"/>
          <p:cNvSpPr/>
          <p:nvPr/>
        </p:nvSpPr>
        <p:spPr>
          <a:xfrm>
            <a:off x="4309920" y="2376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236"/>
          <p:cNvSpPr/>
          <p:nvPr/>
        </p:nvSpPr>
        <p:spPr>
          <a:xfrm>
            <a:off x="4308480" y="230508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238"/>
          <p:cNvSpPr/>
          <p:nvPr/>
        </p:nvSpPr>
        <p:spPr>
          <a:xfrm>
            <a:off x="5316480" y="647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42"/>
          <p:cNvSpPr/>
          <p:nvPr/>
        </p:nvSpPr>
        <p:spPr>
          <a:xfrm>
            <a:off x="4813200" y="669600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243"/>
          <p:cNvSpPr/>
          <p:nvPr/>
        </p:nvSpPr>
        <p:spPr>
          <a:xfrm>
            <a:off x="7693200" y="6696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44"/>
          <p:cNvSpPr/>
          <p:nvPr/>
        </p:nvSpPr>
        <p:spPr>
          <a:xfrm>
            <a:off x="4813200" y="59770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86"/>
          <p:cNvSpPr/>
          <p:nvPr/>
        </p:nvSpPr>
        <p:spPr>
          <a:xfrm>
            <a:off x="2724120" y="3314880"/>
            <a:ext cx="1513080" cy="7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H SarabunIT๙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 </a:t>
            </a:r>
            <a:r>
              <a:rPr b="0" lang="hi-IN" sz="9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เสริมสร้างความรู้และพัฒนาทักษะในการดำเนินชีวิตและการสร้างเสริมสุขภาพที่จะนำไปสู่การดูแลตนเองด้านสุขภาพ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84"/>
          <p:cNvSpPr/>
          <p:nvPr/>
        </p:nvSpPr>
        <p:spPr>
          <a:xfrm>
            <a:off x="7405560" y="2583000"/>
            <a:ext cx="1871640" cy="50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ประเทศไทยเป็นศูนย์กลางด้านสุขภาพและการรักษาพยาบาลในระดับนานาชาต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43"/>
          <p:cNvSpPr/>
          <p:nvPr/>
        </p:nvSpPr>
        <p:spPr>
          <a:xfrm>
            <a:off x="5605560" y="30956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46"/>
          <p:cNvSpPr/>
          <p:nvPr/>
        </p:nvSpPr>
        <p:spPr>
          <a:xfrm>
            <a:off x="3228840" y="3816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84"/>
          <p:cNvSpPr/>
          <p:nvPr/>
        </p:nvSpPr>
        <p:spPr>
          <a:xfrm>
            <a:off x="4092480" y="2583000"/>
            <a:ext cx="2305080" cy="50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ประชาชนมีสุขภาพอนามัยดี มีพฤติกรรมสุขภาพเหมาะสม สามารถควบคุม และลดปัจจัยเสี่ยงต่อโรคเรื้อรัง ภัยพิบัติ และภัยสุขภาพ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43"/>
          <p:cNvSpPr/>
          <p:nvPr/>
        </p:nvSpPr>
        <p:spPr>
          <a:xfrm>
            <a:off x="5389560" y="2376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48"/>
          <p:cNvSpPr/>
          <p:nvPr/>
        </p:nvSpPr>
        <p:spPr>
          <a:xfrm>
            <a:off x="3516480" y="309564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91"/>
          <p:cNvSpPr/>
          <p:nvPr/>
        </p:nvSpPr>
        <p:spPr>
          <a:xfrm>
            <a:off x="3516480" y="30956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91"/>
          <p:cNvSpPr/>
          <p:nvPr/>
        </p:nvSpPr>
        <p:spPr>
          <a:xfrm>
            <a:off x="4524480" y="2952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32"/>
          <p:cNvSpPr/>
          <p:nvPr/>
        </p:nvSpPr>
        <p:spPr>
          <a:xfrm>
            <a:off x="3444840" y="936720"/>
            <a:ext cx="2160720" cy="187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4.3.3 </a:t>
            </a:r>
            <a:r>
              <a:rPr b="0" lang="th-TH" sz="9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จัดให้มีมาตรการสร้างสุขภาพโดยมีเป้าหมาย เพื่อลดอัตราป่วย ตาย และผลกระทบจากโรคไม่ติดต่อเรื้อรัง เช่น โรคเบาหวาน โรคความดันโลหิตสูง โรคหัวใจ โรคหลอดเลือด และโรคมะเร็ง อย่างมีบูรณาการและครบวงจร ตั้งแต่การมีนโยบายสาธารณะที่เอื้อต่อการลดปัจจัยเสี่ยงทางสุขภาพ จัดให้มีการสื่อสารสาธารณะของรัฐเพื่อการปรับเปลี่ยนพฤติกรรมสุขภาพ ให้ความรู้ป้องกันโรคเพื่อการดูแลรักษาสุขภาพตนเองของประชาชนอย่างมีประสิทธิภาพ การสร้างความเข้มแข็งของชุมชน การให้บริการเชิงรุก ตลอดจนคุ้มครองผู้บริโภคด้านสุขภาพ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236"/>
          <p:cNvSpPr/>
          <p:nvPr/>
        </p:nvSpPr>
        <p:spPr>
          <a:xfrm>
            <a:off x="6541920" y="230508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144360"/>
            <a:ext cx="781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ประเด็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ยุท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ศาสตร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กร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880" y="1297080"/>
            <a:ext cx="505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เป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ปร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สงค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กร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076480" y="431640"/>
            <a:ext cx="2592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เสริมสร้างการมีส่วนร่วมในการพัฒนาพฤติกรรมสุขภาพของประชาช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6757920" y="431640"/>
            <a:ext cx="1800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คุ้มครองผู้บริโภคด้านระบบบริการสุขภา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0"/>
          <p:cNvSpPr/>
          <p:nvPr/>
        </p:nvSpPr>
        <p:spPr>
          <a:xfrm>
            <a:off x="0" y="223200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3373560" y="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3"/>
          <p:cNvSpPr/>
          <p:nvPr/>
        </p:nvSpPr>
        <p:spPr>
          <a:xfrm>
            <a:off x="3373560" y="1008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5"/>
          <p:cNvSpPr/>
          <p:nvPr/>
        </p:nvSpPr>
        <p:spPr>
          <a:xfrm flipH="1">
            <a:off x="2149560" y="1440000"/>
            <a:ext cx="24480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ประชาชนสามารถพึ่งตนเองด้านสุขภาพได้และระบบสุขภาพภาคประชาชนมีความเข้มแข็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1357200" y="2376360"/>
            <a:ext cx="151128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เสริมสร้างการมีส่วนร่วมในการพัฒนาพฤติกรรมสุขภาพของประชาช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20"/>
          <p:cNvSpPr/>
          <p:nvPr/>
        </p:nvSpPr>
        <p:spPr>
          <a:xfrm flipH="1">
            <a:off x="6108840" y="1440000"/>
            <a:ext cx="32414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สถานบริการสุขภาพ ภาครัฐ  ภาคเอกชน สถานประกอบการเพื่อสุขภาพ และผู้ประกอบโรคศิลปะ มีคุณภาพตามมาตรฐ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24"/>
          <p:cNvSpPr/>
          <p:nvPr/>
        </p:nvSpPr>
        <p:spPr>
          <a:xfrm>
            <a:off x="565200" y="0"/>
            <a:ext cx="0" cy="720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26"/>
          <p:cNvSpPr/>
          <p:nvPr/>
        </p:nvSpPr>
        <p:spPr>
          <a:xfrm>
            <a:off x="0" y="122400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8"/>
          <p:cNvSpPr/>
          <p:nvPr/>
        </p:nvSpPr>
        <p:spPr>
          <a:xfrm>
            <a:off x="7693200" y="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32"/>
          <p:cNvSpPr/>
          <p:nvPr/>
        </p:nvSpPr>
        <p:spPr>
          <a:xfrm>
            <a:off x="7693200" y="1008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0"/>
          <p:cNvSpPr/>
          <p:nvPr/>
        </p:nvSpPr>
        <p:spPr>
          <a:xfrm>
            <a:off x="-92520" y="2305080"/>
            <a:ext cx="72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กลยุทธ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กร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1"/>
          <p:cNvSpPr/>
          <p:nvPr/>
        </p:nvSpPr>
        <p:spPr>
          <a:xfrm>
            <a:off x="3805200" y="2376360"/>
            <a:ext cx="158436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เสริมสร้างศักยภาพและพัฒนาเครือข่ายระบบสุขภาพภาคประชาช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3"/>
          <p:cNvSpPr/>
          <p:nvPr/>
        </p:nvSpPr>
        <p:spPr>
          <a:xfrm>
            <a:off x="6829560" y="2376360"/>
            <a:ext cx="172872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ส่งเสริม สนับสนุน พัฒนา และควบคุมกำกับระบบบริการสุขภาพให้ได้คุณภาพมาตรฐ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46"/>
          <p:cNvSpPr/>
          <p:nvPr/>
        </p:nvSpPr>
        <p:spPr>
          <a:xfrm>
            <a:off x="2149560" y="3095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54"/>
          <p:cNvSpPr/>
          <p:nvPr/>
        </p:nvSpPr>
        <p:spPr>
          <a:xfrm>
            <a:off x="0" y="338472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6"/>
          <p:cNvSpPr/>
          <p:nvPr/>
        </p:nvSpPr>
        <p:spPr>
          <a:xfrm>
            <a:off x="0" y="3600360"/>
            <a:ext cx="6364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โคร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การ</a:t>
            </a:r>
            <a:r>
              <a:rPr b="1" lang="en-US" sz="14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/</a:t>
            </a:r>
            <a:r>
              <a:rPr b="1" lang="hi-IN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ผลผลิต</a:t>
            </a:r>
            <a:r>
              <a:rPr b="1" lang="en-US" sz="16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/</a:t>
            </a:r>
            <a:r>
              <a:rPr b="1" lang="hi-IN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กิจกรรม กร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8"/>
          <p:cNvSpPr/>
          <p:nvPr/>
        </p:nvSpPr>
        <p:spPr>
          <a:xfrm>
            <a:off x="6541920" y="3600360"/>
            <a:ext cx="2590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IT๙"/>
                <a:cs typeface="TH SarabunIT๙"/>
              </a:rPr>
              <a:t>ผลผลิต </a:t>
            </a:r>
            <a:r>
              <a:rPr b="0" lang="en-US" sz="1400" spc="-1" strike="noStrike">
                <a:solidFill>
                  <a:srgbClr val="000000"/>
                </a:solidFill>
                <a:latin typeface="TH SarabunIT๙"/>
                <a:ea typeface="SimSun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สถานบริการสุขภาพภาครัฐ ภาคเอกชน สถานประกอบการเพื่อสุขภาพ และ   ผู้ประกอบโรคศิลปะได้รับการส่งเสริม พัฒนา ควบคุม กำกับ มีมาตรฐานตามที่กฎหมายกำหนด และยกระดับคุณภาพสู่สาก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 u="sng">
                <a:solidFill>
                  <a:srgbClr val="000000"/>
                </a:solidFill>
                <a:uFillTx/>
                <a:latin typeface="TH SarabunIT๙"/>
                <a:cs typeface="TH SarabunIT๙"/>
              </a:rPr>
              <a:t>กิจกรรมที่ </a:t>
            </a:r>
            <a:r>
              <a:rPr b="0" lang="th-TH" sz="1400" spc="-1" strike="noStrike" u="sng">
                <a:solidFill>
                  <a:srgbClr val="000000"/>
                </a:solidFill>
                <a:uFillTx/>
                <a:latin typeface="TH SarabunIT๙"/>
                <a:ea typeface="TH SarabunIT๙"/>
              </a:rPr>
              <a:t>1</a:t>
            </a:r>
            <a:r>
              <a:rPr b="0" lang="th-TH" sz="14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ส่งเสริม พัฒนา ควบคุม กำกับสถานบริการสุขภาพภาครัฐ ภาคเอกชน สถานประกอบการเพื่อสุขภาพ ผู้ประกอบโรคศิลปะ และเครือข่ายระบบบริการสุขภา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 u="sng">
                <a:solidFill>
                  <a:srgbClr val="000000"/>
                </a:solidFill>
                <a:uFillTx/>
                <a:latin typeface="TH SarabunIT๙"/>
                <a:cs typeface="TH SarabunIT๙"/>
              </a:rPr>
              <a:t>กิจกรรมที่ </a:t>
            </a:r>
            <a:r>
              <a:rPr b="0" lang="th-TH" sz="1400" spc="-1" strike="noStrike" u="sng">
                <a:solidFill>
                  <a:srgbClr val="000000"/>
                </a:solidFill>
                <a:uFillTx/>
                <a:latin typeface="TH SarabunIT๙"/>
                <a:ea typeface="TH SarabunIT๙"/>
              </a:rPr>
              <a:t>2</a:t>
            </a:r>
            <a:r>
              <a:rPr b="0" lang="th-TH" sz="14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ศึกษา วิเคราะห์ วิจัยเพื่อการพัฒนา และการบริหารจัดการองค์กร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68"/>
          <p:cNvSpPr/>
          <p:nvPr/>
        </p:nvSpPr>
        <p:spPr>
          <a:xfrm>
            <a:off x="1357200" y="3600360"/>
            <a:ext cx="1440000" cy="222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IT๙"/>
                <a:cs typeface="TH SarabunIT๙"/>
              </a:rPr>
              <a:t>ผลผลิต</a:t>
            </a:r>
            <a:r>
              <a:rPr b="1" lang="th-TH" sz="14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   ประชาชนกลุ่มเป้าหมายได้รับการถ่ายทอดความรู้ด้านสุขภา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 u="sng">
                <a:solidFill>
                  <a:srgbClr val="000000"/>
                </a:solidFill>
                <a:uFillTx/>
                <a:latin typeface="TH SarabunIT๙"/>
                <a:cs typeface="TH SarabunIT๙"/>
              </a:rPr>
              <a:t>กิจกรรม</a:t>
            </a:r>
            <a:r>
              <a:rPr b="0" lang="th-TH" sz="14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 ถ่ายทอดความรู้ด้านสุขภาพสู่ประชาชนกลุ่มเป้าหมา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9"/>
          <p:cNvSpPr/>
          <p:nvPr/>
        </p:nvSpPr>
        <p:spPr>
          <a:xfrm>
            <a:off x="3157560" y="3600360"/>
            <a:ext cx="2663640" cy="371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 u="sng">
                <a:solidFill>
                  <a:srgbClr val="000000"/>
                </a:solidFill>
                <a:uFillTx/>
                <a:latin typeface="TH SarabunIT๙"/>
                <a:cs typeface="TH SarabunIT๙"/>
              </a:rPr>
              <a:t>ผลผลิต </a:t>
            </a:r>
            <a:r>
              <a:rPr b="1" lang="en-US" sz="1400" spc="-1" strike="noStrike">
                <a:solidFill>
                  <a:srgbClr val="000000"/>
                </a:solidFill>
                <a:latin typeface="TH SarabunIT๙"/>
                <a:ea typeface="SimSun"/>
              </a:rPr>
              <a:t> </a:t>
            </a:r>
            <a:r>
              <a:rPr b="1" lang="th-TH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อาสาสมัครสาธารณสุข ประจำหมู่บ้าน </a:t>
            </a:r>
            <a:r>
              <a:rPr b="1" lang="th-TH" sz="14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(</a:t>
            </a:r>
            <a:r>
              <a:rPr b="1" lang="th-TH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อสม</a:t>
            </a:r>
            <a:r>
              <a:rPr b="1" lang="th-TH" sz="14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.) </a:t>
            </a:r>
            <a:r>
              <a:rPr b="1" lang="th-TH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และภาคีเครือข่ายได้รับการส่งเสริมและสนับสนุนให้มีส่วนร่วมในการพัฒนาระบบสุขภาพชุมช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 u="sng">
                <a:solidFill>
                  <a:srgbClr val="000000"/>
                </a:solidFill>
                <a:uFillTx/>
                <a:latin typeface="TH SarabunIT๙"/>
                <a:cs typeface="TH SarabunIT๙"/>
              </a:rPr>
              <a:t>กิจกรรมที่ </a:t>
            </a:r>
            <a:r>
              <a:rPr b="0" lang="th-TH" sz="1400" spc="-1" strike="noStrike" u="sng">
                <a:solidFill>
                  <a:srgbClr val="000000"/>
                </a:solidFill>
                <a:uFillTx/>
                <a:latin typeface="TH SarabunIT๙"/>
                <a:ea typeface="TH SarabunIT๙"/>
              </a:rPr>
              <a:t>1</a:t>
            </a:r>
            <a:r>
              <a:rPr b="0" lang="th-TH" sz="14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ส่งเสริมและสนับสนุนองค์กรอาสาสมัครสาธารณสุขประจำหมู่บ้าน </a:t>
            </a:r>
            <a:r>
              <a:rPr b="0" lang="th-TH" sz="14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(</a:t>
            </a:r>
            <a:r>
              <a:rPr b="0" lang="th-TH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อสม</a:t>
            </a:r>
            <a:r>
              <a:rPr b="0" lang="th-TH" sz="14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.) </a:t>
            </a:r>
            <a:r>
              <a:rPr b="0" lang="th-TH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องค์กรปกครองส่วนท้องถิ่น ภาคีเครือข่ายสุขภาพภาคประชาชนในการจัดการระบบสุขภาพชุมช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 u="sng">
                <a:solidFill>
                  <a:srgbClr val="000000"/>
                </a:solidFill>
                <a:uFillTx/>
                <a:latin typeface="TH SarabunIT๙"/>
                <a:cs typeface="TH SarabunIT๙"/>
              </a:rPr>
              <a:t>กิจกรรมที่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H SarabunIT๙"/>
                <a:ea typeface="SimSu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H SarabunIT๙"/>
                <a:ea typeface="SimSun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พัฒนาศักยภาพอาสาสมัครสาธารณสุขประจำหมู่บ้าน </a:t>
            </a:r>
            <a:r>
              <a:rPr b="0" lang="th-TH" sz="14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(</a:t>
            </a:r>
            <a:r>
              <a:rPr b="0" lang="th-TH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อสม</a:t>
            </a:r>
            <a:r>
              <a:rPr b="0" lang="th-TH" sz="14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TH SarabunIT๙"/>
                <a:ea typeface="SimSun"/>
              </a:rPr>
              <a:t>)</a:t>
            </a:r>
            <a:r>
              <a:rPr b="0" lang="th-TH" sz="1400" spc="-1" strike="noStrike">
                <a:solidFill>
                  <a:srgbClr val="000000"/>
                </a:solidFill>
                <a:latin typeface="TH SarabunIT๙"/>
                <a:cs typeface="TH SarabunIT๙"/>
              </a:rPr>
              <a:t>ในการเฝ้าระวังโรค ป้องกัน และสร้างสุขภาพเชิงรุกในชุมชน ทั้งในภาวะปกติ ภาวะฉุกเฉินและภัยพิบัต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70"/>
          <p:cNvSpPr/>
          <p:nvPr/>
        </p:nvSpPr>
        <p:spPr>
          <a:xfrm>
            <a:off x="4597560" y="3095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74"/>
          <p:cNvSpPr/>
          <p:nvPr/>
        </p:nvSpPr>
        <p:spPr>
          <a:xfrm>
            <a:off x="10058400" y="0"/>
            <a:ext cx="0" cy="720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75"/>
          <p:cNvSpPr/>
          <p:nvPr/>
        </p:nvSpPr>
        <p:spPr>
          <a:xfrm>
            <a:off x="0" y="0"/>
            <a:ext cx="0" cy="720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76"/>
          <p:cNvSpPr/>
          <p:nvPr/>
        </p:nvSpPr>
        <p:spPr>
          <a:xfrm>
            <a:off x="0" y="720108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77"/>
          <p:cNvSpPr/>
          <p:nvPr/>
        </p:nvSpPr>
        <p:spPr>
          <a:xfrm>
            <a:off x="0" y="720108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78"/>
          <p:cNvSpPr/>
          <p:nvPr/>
        </p:nvSpPr>
        <p:spPr>
          <a:xfrm>
            <a:off x="0" y="9360"/>
            <a:ext cx="1005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9"/>
          <p:cNvSpPr/>
          <p:nvPr/>
        </p:nvSpPr>
        <p:spPr>
          <a:xfrm>
            <a:off x="4741920" y="6696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H SarabunIT๙"/>
                <a:ea typeface="TH SarabunIT๙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82"/>
          <p:cNvSpPr/>
          <p:nvPr/>
        </p:nvSpPr>
        <p:spPr>
          <a:xfrm>
            <a:off x="7693200" y="1944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44"/>
          <p:cNvSpPr/>
          <p:nvPr/>
        </p:nvSpPr>
        <p:spPr>
          <a:xfrm>
            <a:off x="2149560" y="2087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49"/>
          <p:cNvSpPr/>
          <p:nvPr/>
        </p:nvSpPr>
        <p:spPr>
          <a:xfrm>
            <a:off x="3373560" y="1978200"/>
            <a:ext cx="0" cy="10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37"/>
          <p:cNvSpPr/>
          <p:nvPr/>
        </p:nvSpPr>
        <p:spPr>
          <a:xfrm>
            <a:off x="2149560" y="208764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44"/>
          <p:cNvSpPr/>
          <p:nvPr/>
        </p:nvSpPr>
        <p:spPr>
          <a:xfrm>
            <a:off x="4597560" y="2087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70"/>
          <p:cNvSpPr/>
          <p:nvPr/>
        </p:nvSpPr>
        <p:spPr>
          <a:xfrm>
            <a:off x="7693200" y="3095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02:31:49Z</dcterms:created>
  <dc:creator>suchada</dc:creator>
  <dc:description/>
  <dc:language>en-US</dc:language>
  <cp:lastModifiedBy>com</cp:lastModifiedBy>
  <dcterms:modified xsi:type="dcterms:W3CDTF">2011-10-17T07:53:20Z</dcterms:modified>
  <cp:revision>208</cp:revision>
  <dc:subject/>
  <dc:title>PowerPoint Presentation</dc:title>
</cp:coreProperties>
</file>