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152063" cy="7616825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16A-A3DD-40C3-9786-0514989A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0C2-856E-4A4B-9C42-9ED63AE6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144-B80A-4D44-A33A-2854910B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967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8520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79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967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68520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CAB-B213-4FFC-B96F-52F9A01A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D3A67-AF3B-44D4-BA13-FFFB2C4B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E9797-354A-42A3-AB02-CB4215A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4554D-33DC-4AAE-9A95-F0C679B9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BBA79-91A0-437F-9B86-434A0F09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EFFB4-2919-41D1-98CC-F847F378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7960" y="25380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08E5F-8A70-434E-9BA0-88CD8F3E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69C94-B8EC-47E7-BB10-855FA350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951-72C1-4A93-A3F9-816C791D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F6FDC-FD41-4E2A-8020-B6B66C0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85984-7642-481F-B17B-B90A57D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D9AB9-2675-4CEA-9931-2FADD82C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9EEEB-C076-49D8-B962-286BB002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67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8520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9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67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8520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32324-EDB4-4A70-A80E-67EF4AB9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749-4F35-43FD-9B3A-E631B384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89B-016E-4B22-8F65-473E525A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7C7-C78B-42AB-BB4C-6ECB6C7F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07960" y="25380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890-7764-4DC9-8B71-9729BA2F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A30-BBD6-49AB-AC60-D384189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5F1-F654-47DD-98F7-12551EEC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F13-F566-4B4D-9EEE-F9DBD33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150200" cy="7616160"/>
            <a:chOff x="0" y="0"/>
            <a:chExt cx="10150200" cy="7616160"/>
          </a:xfrm>
        </p:grpSpPr>
        <p:sp>
          <p:nvSpPr>
            <p:cNvPr id="1" name=""/>
            <p:cNvSpPr/>
            <p:nvPr/>
          </p:nvSpPr>
          <p:spPr>
            <a:xfrm>
              <a:off x="0" y="5416200"/>
              <a:ext cx="10150200" cy="21999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0150200" cy="5416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935760" y="6956280"/>
            <a:ext cx="3214800" cy="6764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686640"/>
            <a:ext cx="8711280" cy="950040"/>
            <a:chOff x="0" y="6686640"/>
            <a:chExt cx="8711280" cy="950040"/>
          </a:xfrm>
        </p:grpSpPr>
        <p:sp>
          <p:nvSpPr>
            <p:cNvPr id="5" name=""/>
            <p:cNvSpPr/>
            <p:nvPr/>
          </p:nvSpPr>
          <p:spPr>
            <a:xfrm>
              <a:off x="2622240" y="6686640"/>
              <a:ext cx="5709240" cy="9432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380840" y="6686640"/>
              <a:ext cx="4330440" cy="950040"/>
              <a:chOff x="4380840" y="6686640"/>
              <a:chExt cx="4330440" cy="950040"/>
            </a:xfrm>
          </p:grpSpPr>
          <p:sp>
            <p:nvSpPr>
              <p:cNvPr id="7" name=""/>
              <p:cNvSpPr/>
              <p:nvPr/>
            </p:nvSpPr>
            <p:spPr>
              <a:xfrm>
                <a:off x="6956640" y="6698880"/>
                <a:ext cx="1754640" cy="9378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717080" y="6686640"/>
                <a:ext cx="327600" cy="6951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8800" y="6864120"/>
                <a:ext cx="666000" cy="47664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392520" y="6816600"/>
                <a:ext cx="273240" cy="1299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0840" y="6804360"/>
                <a:ext cx="73800" cy="1422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686640"/>
              <a:ext cx="7006320" cy="9417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95160" y="6688080"/>
            <a:ext cx="6311880" cy="942840"/>
            <a:chOff x="695160" y="6688080"/>
            <a:chExt cx="6311880" cy="942840"/>
          </a:xfrm>
        </p:grpSpPr>
        <p:sp>
          <p:nvSpPr>
            <p:cNvPr id="14" name=""/>
            <p:cNvSpPr/>
            <p:nvPr/>
          </p:nvSpPr>
          <p:spPr>
            <a:xfrm>
              <a:off x="2106720" y="6688080"/>
              <a:ext cx="643320" cy="512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423600" y="6751440"/>
              <a:ext cx="3583440" cy="87948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24520" y="6740640"/>
              <a:ext cx="124920" cy="107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05520" y="6774120"/>
              <a:ext cx="283680" cy="28872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243080" y="6795360"/>
              <a:ext cx="103680" cy="10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95160" y="6719400"/>
              <a:ext cx="431640" cy="364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3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41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4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4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600" y="6940080"/>
            <a:ext cx="236844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468600" y="6940080"/>
            <a:ext cx="321336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7273800" y="6940080"/>
            <a:ext cx="236880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7207B99-846C-4B1E-A9F6-2A1D6EE217EA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2320"/>
            <a:ext cx="10150200" cy="7616160"/>
            <a:chOff x="-6480" y="22320"/>
            <a:chExt cx="10150200" cy="7616160"/>
          </a:xfrm>
        </p:grpSpPr>
        <p:sp>
          <p:nvSpPr>
            <p:cNvPr id="62" name=""/>
            <p:cNvSpPr/>
            <p:nvPr/>
          </p:nvSpPr>
          <p:spPr>
            <a:xfrm>
              <a:off x="-6480" y="5438520"/>
              <a:ext cx="10150200" cy="21999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2320"/>
              <a:ext cx="10150200" cy="5416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929280" y="6962760"/>
            <a:ext cx="3214800" cy="6764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702480"/>
            <a:ext cx="8707680" cy="944280"/>
            <a:chOff x="-1440" y="6702480"/>
            <a:chExt cx="8707680" cy="944280"/>
          </a:xfrm>
        </p:grpSpPr>
        <p:sp>
          <p:nvSpPr>
            <p:cNvPr id="66" name=""/>
            <p:cNvSpPr/>
            <p:nvPr/>
          </p:nvSpPr>
          <p:spPr>
            <a:xfrm>
              <a:off x="2620800" y="6702480"/>
              <a:ext cx="5709240" cy="9442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379400" y="6702480"/>
              <a:ext cx="4326840" cy="943920"/>
              <a:chOff x="4379400" y="6702480"/>
              <a:chExt cx="4326840" cy="943920"/>
            </a:xfrm>
          </p:grpSpPr>
          <p:sp>
            <p:nvSpPr>
              <p:cNvPr id="68" name=""/>
              <p:cNvSpPr/>
              <p:nvPr/>
            </p:nvSpPr>
            <p:spPr>
              <a:xfrm>
                <a:off x="6955200" y="6714720"/>
                <a:ext cx="1751040" cy="9316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15640" y="6702480"/>
                <a:ext cx="327600" cy="6958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37360" y="6879960"/>
                <a:ext cx="666000" cy="4773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91080" y="6832440"/>
                <a:ext cx="273240" cy="1299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9400" y="6820200"/>
                <a:ext cx="73800" cy="1425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702480"/>
              <a:ext cx="7006320" cy="9428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95160" y="6688080"/>
            <a:ext cx="6311880" cy="942840"/>
            <a:chOff x="695160" y="6688080"/>
            <a:chExt cx="6311880" cy="942840"/>
          </a:xfrm>
        </p:grpSpPr>
        <p:sp>
          <p:nvSpPr>
            <p:cNvPr id="75" name=""/>
            <p:cNvSpPr/>
            <p:nvPr/>
          </p:nvSpPr>
          <p:spPr>
            <a:xfrm>
              <a:off x="2106720" y="6688080"/>
              <a:ext cx="643320" cy="512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3600" y="6751440"/>
              <a:ext cx="3583440" cy="87948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24520" y="6740640"/>
              <a:ext cx="124920" cy="107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05520" y="6774120"/>
              <a:ext cx="283680" cy="28872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43080" y="6795360"/>
              <a:ext cx="103680" cy="10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5160" y="6719400"/>
              <a:ext cx="431640" cy="364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1608120"/>
            <a:ext cx="91346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507600" y="6940080"/>
            <a:ext cx="236844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7273800" y="6940080"/>
            <a:ext cx="236880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2493F7D0-3FAC-4701-BF63-1E872D28F229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468600" y="6940080"/>
            <a:ext cx="321336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4880" y="212760"/>
            <a:ext cx="94806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Cordia New"/>
                <a:cs typeface="LilyUPC"/>
              </a:rPr>
              <a:t>แผนภูมิแสดงความเชื่อมโยงยุทธศาสตร์การจัดสรรงบประมาณ ผลผลิต และงบประมาณ  ปี </a:t>
            </a:r>
            <a:r>
              <a:rPr b="1" lang="th-TH" sz="2400" spc="-1" strike="noStrike">
                <a:solidFill>
                  <a:srgbClr val="ff33cc"/>
                </a:solidFill>
                <a:latin typeface="Cordia New"/>
                <a:ea typeface="LilyUPC"/>
              </a:rPr>
              <a:t>255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Cordia New"/>
                <a:cs typeface="LilyUPC"/>
              </a:rPr>
              <a:t>กรมสนับสนุนบริการสุขภา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3760" y="920880"/>
            <a:ext cx="1504800" cy="66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rdia New"/>
                <a:cs typeface="AngsanaUPC"/>
              </a:rPr>
              <a:t>ยุทธศาสตร์การ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rdia New"/>
                <a:cs typeface="AngsanaUPC"/>
              </a:rPr>
              <a:t>จัดสรรงบประมา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00" y="1474920"/>
            <a:ext cx="1295280" cy="21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rdia New"/>
                <a:cs typeface="Cordia New"/>
              </a:rPr>
              <a:t>แผนงา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68480" y="939960"/>
            <a:ext cx="4083120" cy="38088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2.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ุทธศาสตร์การพัฒนาสังคมและคุณภาพชีวิ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38720" y="939960"/>
            <a:ext cx="3657600" cy="38088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1.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ุทธศาสตร์การฟื้นฟูความเชื่อมั่นของประเท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2040" y="1397160"/>
            <a:ext cx="4559400" cy="38088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2.3 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ผนงานพัฒนาสุขภาพของประชาชน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(748,725,200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บาท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8560" y="1397160"/>
            <a:ext cx="3489480" cy="38088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1.3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ผนงานป้องกันแก้ไขปัญหายาเสพติดเร่งด่ว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ละปราบปรามผู้มีอิทธิพล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(7,175,800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บาท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3760" y="1854360"/>
            <a:ext cx="906480" cy="66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เป้าหมายการให้บริการกระทรว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85920" y="1854360"/>
            <a:ext cx="297828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สามารถเข้าถึงหลักประกันสุขภาพ ได้รับบริกา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 และบริโภคผลิตภัณฑ์สุขภาพที่มีคุณภาพมาตรฐา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ย่างทั่วถึงและเป็นธรรม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(534,668,400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4200" y="1854360"/>
            <a:ext cx="2809800" cy="6094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สุขภาพดี มีพฤติกรรมสุขภาพที่ถูกต้อ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มีส่วนร่วมในการดูแลสุขภาพที่เหมาะส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(214,056,800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74000" y="1854360"/>
            <a:ext cx="2841480" cy="6094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 ผู้เสพและผู้ติดยาเสพติดได้รับการดูแลคุณภา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ีวิตโดยการบำบัดรักษา ฟื้นฟู เฝ้าระวัง ควบคุมการใช้วัตถุเสพติด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สามารถดำเนินชีวิตได้ตามปกติ </a:t>
            </a:r>
            <a:r>
              <a:rPr b="1" lang="th-TH" sz="1200" spc="-1" strike="noStrike">
                <a:solidFill>
                  <a:srgbClr val="463416"/>
                </a:solidFill>
                <a:latin typeface="Arial"/>
                <a:ea typeface="Angsana New"/>
              </a:rPr>
              <a:t>(7,175,800 </a:t>
            </a:r>
            <a:r>
              <a:rPr b="1" lang="th-TH" sz="1200" spc="-1" strike="noStrike">
                <a:solidFill>
                  <a:srgbClr val="463416"/>
                </a:solidFill>
                <a:latin typeface="Arial"/>
                <a:cs typeface="Angsana New"/>
              </a:rPr>
              <a:t>บาท</a:t>
            </a:r>
            <a:r>
              <a:rPr b="1" lang="th-TH" sz="1200" spc="-1" strike="noStrike">
                <a:solidFill>
                  <a:srgbClr val="463416"/>
                </a:solidFill>
                <a:latin typeface="Arial"/>
                <a:ea typeface="Angsana Ne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692440"/>
            <a:ext cx="681120" cy="51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ลยุทธ์กระทรว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46080" y="2540160"/>
            <a:ext cx="11923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3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ระบบหลั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กันสุขภาพให้เกิด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สิทธิภาพและมี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มาตรฐา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8400" y="2540160"/>
            <a:ext cx="2636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4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ฏิรูประบบบริหารจัดการทางการแพทย์ สาธารณสุขแล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ะบบสุขภาพให้มีประสิทธิภาพและครบวงจร ทั้งการวิจัย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 องค์ความรู้การรักษาพยาบาล การส่งเสริม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ควบคุมป้องกันโรคการฟื้นฟูสภาพ คุ้มครองผู้บริโภค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วมทั้งสนับสนุนให้ประเทศไทยเป็นศูนย์กลางสุขภาพ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(</a:t>
            </a:r>
            <a:r>
              <a:rPr b="1" lang="en-US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Medical Hub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5040" y="2540160"/>
            <a:ext cx="221148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6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เสริมสร้างปัจจัยพื้นฐานของการมีพฤติกรรมสุขภาพที่ถูกต้อ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ย่างพอเพียง ที่เอื้อต่อการมีสุขภาพดีของประชาชน รวมทั้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ึกษาวิจัยเพื่อพัฒนาข้อเสนอเชิงนโยบายในการนำ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การภาษีมาใช้กระตุ้นการปรับเปลี่ยนพฤติกรรมบุคคล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86520" y="2540160"/>
            <a:ext cx="161784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7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และพัฒนาศักยภาพขอ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าสาสมัครและภาคีเครือข่ายใ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ดำเนินกิจกรรมด้าน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ดยการมีส่วนร่วมจากทุกภาคส่ว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2540160"/>
            <a:ext cx="131112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2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เสริมสร้างระบบการเฝ้าระวั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 ป้องกัน บำบัดรักษาแล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ฟื้นฟูสภาพของประชาชนผู้เส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ผู้ติดยาเสพติดให้มีประสิทธิ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ยั่งยื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4960" y="3454560"/>
            <a:ext cx="765360" cy="65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ป้าหมายการให้บริการหน่วยงา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0240" y="3530520"/>
            <a:ext cx="210024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สุขภาพและสถานประกอบการ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ุรกิจบริการสุขภาพมีคุณภาพตามมาตรฐา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(528,902,500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48680" y="3530520"/>
            <a:ext cx="16351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รายงาน ระบบติดตามและเฝ้าระวั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ัญหายาเสพติดมีคุณ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(7,175,800 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8920" y="3530520"/>
            <a:ext cx="143208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บริโภคมีความรู้ความเข้าใ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การใช้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(5,765,900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9960" y="3530520"/>
            <a:ext cx="158148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ความรู้ที่จำเป็นแล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ฤติกรรมที่ถูกต้องในการดูแล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(55,301,8000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8560" y="3530520"/>
            <a:ext cx="17017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สาธารณสุขประจำหมู่บ้าน ภาค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ครือข่ายมีส่วนร่วมในการจัดกิจกรร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สุขภาพ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(158,746,000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600" y="4172040"/>
            <a:ext cx="636480" cy="36180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Cordia New"/>
              </a:rPr>
              <a:t>กลยุทธ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ร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30320" y="4064040"/>
            <a:ext cx="170352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สนับสนุน พัฒนา และควบคุ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ำกับระบบ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ได้คุณภาพมาตรฐา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6680" y="4064040"/>
            <a:ext cx="114768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องค์ความรู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ระบบ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26080" y="4064040"/>
            <a:ext cx="138744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สริมสร้างจิตสำนึกความรู้และทักษ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ี่จำเป็นแก่ประชาชนให้ม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ฤติกรรมสุขภาพที่เหมาะส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67520" y="4064040"/>
            <a:ext cx="145260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สนับสนุนองค์กร อสม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ป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ภาคีเครือข่ายในการดำเนิ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ิจกรรมด้าน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04360" y="4064040"/>
            <a:ext cx="131112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พัฒนาระบบรายงาน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ติดตามและเฝ้าระวังปัญหา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ยาเสพติด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11480" y="4064040"/>
            <a:ext cx="153036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ความรู้ ความเข้าใจในการใช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สุขภาพระหว่างผู้ให้และผู้รั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60400" y="4673520"/>
            <a:ext cx="1193760" cy="5400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ลงานการส่งเสริม พัฒนา สนับสนุ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สาน ควบคุม กำกับ คุณ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ฐานบริการ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397,023,600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68760" y="4673520"/>
            <a:ext cx="1225440" cy="5400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ลงานการวิจัย พัฒนาองค์ความรู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เทคโนโลยีด้านระบบ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  สุขศึกษาและ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ประชาชน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131,878,900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6880" y="4826160"/>
            <a:ext cx="447840" cy="59256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ผ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ผลิ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69160" y="4673520"/>
            <a:ext cx="1274760" cy="60984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ชาชนและ อสม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ลุ่มเป้าหมายได้รับ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ถ่ายทอดความรู้ด้านสุขภาพเพื่อ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นำไปสู่การปรับเปลี่ยนพฤติกรรม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55,310,800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20120" y="4673520"/>
            <a:ext cx="1447920" cy="5335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DilleniaUPC"/>
              </a:rPr>
              <a:t>ระบบรายงาน ระบบติดตามและเฝ้าระวั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DilleniaUPC"/>
              </a:rPr>
              <a:t>ปัญหายาเสพติดได้รับการปรับปรุงแล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DilleniaUPC"/>
              </a:rPr>
              <a:t>พัฒนาเพื่อให้ได้ข้อมูลที่มีคุณภาพมาตรฐา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(7,175,800 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4960" y="4673520"/>
            <a:ext cx="963720" cy="5400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ลงานการส่งเสริมคุ้มครอ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ู้บริโภคด้าน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5,765,900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8400" y="4680000"/>
            <a:ext cx="1446120" cy="5335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ครงการลงทุนพัฒนาระบบบริการสาธารณสุขต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ครงการลงทุนขนาดใหญ่ของ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้านสาธารณสุขพ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ศ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2551-2555(</a:t>
            </a:r>
            <a:r>
              <a:rPr b="1" lang="en-US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Mega Project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 - 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6360" y="4673520"/>
            <a:ext cx="1108080" cy="5400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งค์กรอสม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.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ีเครือข่ายได้รับ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ส่งเสริมและสนับสนุ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ห้มีกิจกรรมด้าน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158,746,000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56440" y="5435640"/>
            <a:ext cx="512640" cy="1828800"/>
          </a:xfrm>
          <a:custGeom>
            <a:avLst/>
            <a:gdLst>
              <a:gd name="textAreaLeft" fmla="*/ 11160 w 512640"/>
              <a:gd name="textAreaRight" fmla="*/ 501480 w 512640"/>
              <a:gd name="textAreaTop" fmla="*/ 11160 h 1828800"/>
              <a:gd name="textAreaBottom" fmla="*/ 1817640 h 1828800"/>
            </a:gdLst>
            <a:ahLst/>
            <a:rect l="textAreaLeft" t="textAreaTop" r="textAreaRight" b="textAreaBottom"/>
            <a:pathLst>
              <a:path w="21600" h="77017">
                <a:moveTo>
                  <a:pt x="1637" y="0"/>
                </a:moveTo>
                <a:arcTo wR="1637" hR="1637" stAng="16200000" swAng="-5400000"/>
                <a:lnTo>
                  <a:pt x="0" y="75380"/>
                </a:lnTo>
                <a:arcTo wR="1637" hR="1637" stAng="10800000" swAng="-5400000"/>
                <a:lnTo>
                  <a:pt x="19963" y="77017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เครือข่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การจั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ิจกรร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93,448,0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8560" y="5435640"/>
            <a:ext cx="595440" cy="1828800"/>
          </a:xfrm>
          <a:custGeom>
            <a:avLst/>
            <a:gdLst>
              <a:gd name="textAreaLeft" fmla="*/ 12960 w 595440"/>
              <a:gd name="textAreaRight" fmla="*/ 582480 w 59544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314">
                <a:moveTo>
                  <a:pt x="1637" y="0"/>
                </a:moveTo>
                <a:arcTo wR="1637" hR="1637" stAng="16200000" swAng="-5400000"/>
                <a:lnTo>
                  <a:pt x="0" y="64677"/>
                </a:lnTo>
                <a:arcTo wR="1637" hR="1637" stAng="10800000" swAng="-5400000"/>
                <a:lnTo>
                  <a:pt x="19963" y="663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ถ่ายทอ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ามรู้ด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ู่ประชา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ลุ่มเป้าหม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55,310,8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45640" y="5283360"/>
            <a:ext cx="938160" cy="55404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DilleniaUPC"/>
              </a:rPr>
              <a:t>พัฒนาระบบรายง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ea typeface="DilleniaUPC"/>
              </a:rPr>
              <a:t> 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DilleniaUPC"/>
              </a:rPr>
              <a:t>ระบบติดต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DilleniaUPC"/>
              </a:rPr>
              <a:t>และเฝ้าระวังปัญหายาเสพติ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(7,175,800 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4960" y="5897520"/>
            <a:ext cx="425520" cy="95040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กิ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กรร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หลั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46360" y="5435640"/>
            <a:ext cx="596880" cy="1828800"/>
          </a:xfrm>
          <a:custGeom>
            <a:avLst/>
            <a:gdLst>
              <a:gd name="textAreaLeft" fmla="*/ 12960 w 596880"/>
              <a:gd name="textAreaRight" fmla="*/ 583920 w 59688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154">
                <a:moveTo>
                  <a:pt x="1637" y="0"/>
                </a:moveTo>
                <a:arcTo wR="1637" hR="1637" stAng="16200000" swAng="-5400000"/>
                <a:lnTo>
                  <a:pt x="0" y="64517"/>
                </a:lnTo>
                <a:arcTo wR="1637" hR="1637" stAng="10800000" swAng="-5400000"/>
                <a:lnTo>
                  <a:pt x="19963" y="6615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ตาม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้านวิศวกรร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แพทย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สถ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55,261,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28920" y="5435640"/>
            <a:ext cx="595440" cy="1828800"/>
          </a:xfrm>
          <a:custGeom>
            <a:avLst/>
            <a:gdLst>
              <a:gd name="textAreaLeft" fmla="*/ 12960 w 595440"/>
              <a:gd name="textAreaRight" fmla="*/ 582480 w 59544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314">
                <a:moveTo>
                  <a:pt x="1637" y="0"/>
                </a:moveTo>
                <a:arcTo wR="1637" hR="1637" stAng="16200000" swAng="-5400000"/>
                <a:lnTo>
                  <a:pt x="0" y="64677"/>
                </a:lnTo>
                <a:arcTo wR="1637" hR="1637" stAng="10800000" swAng="-5400000"/>
                <a:lnTo>
                  <a:pt x="19963" y="663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 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ภาคเอก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ผู้ประกอ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รคศิลปะ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ฐานต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ที่กฎหมายกำหน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26,830,3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11480" y="5435640"/>
            <a:ext cx="594000" cy="1828800"/>
          </a:xfrm>
          <a:custGeom>
            <a:avLst/>
            <a:gdLst>
              <a:gd name="textAreaLeft" fmla="*/ 12960 w 594000"/>
              <a:gd name="textAreaRight" fmla="*/ 581040 w 59400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475">
                <a:moveTo>
                  <a:pt x="1637" y="0"/>
                </a:moveTo>
                <a:arcTo wR="1637" hR="1637" stAng="16200000" swAng="-5400000"/>
                <a:lnTo>
                  <a:pt x="0" y="64838"/>
                </a:lnTo>
                <a:arcTo wR="1637" hR="1637" stAng="10800000" swAng="-5400000"/>
                <a:lnTo>
                  <a:pt x="19963" y="66475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ธุรกิจ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8,157,3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81680" y="5435640"/>
            <a:ext cx="495360" cy="1828800"/>
          </a:xfrm>
          <a:custGeom>
            <a:avLst/>
            <a:gdLst>
              <a:gd name="textAreaLeft" fmla="*/ 10800 w 495360"/>
              <a:gd name="textAreaRight" fmla="*/ 484560 w 495360"/>
              <a:gd name="textAreaTop" fmla="*/ 10800 h 1828800"/>
              <a:gd name="textAreaBottom" fmla="*/ 1818000 h 1828800"/>
            </a:gdLst>
            <a:ahLst/>
            <a:rect l="textAreaLeft" t="textAreaTop" r="textAreaRight" b="textAreaBottom"/>
            <a:pathLst>
              <a:path w="21600" h="79702">
                <a:moveTo>
                  <a:pt x="1637" y="0"/>
                </a:moveTo>
                <a:arcTo wR="1637" hR="1637" stAng="16200000" swAng="-5400000"/>
                <a:lnTo>
                  <a:pt x="0" y="78065"/>
                </a:lnTo>
                <a:arcTo wR="1637" hR="1637" stAng="10800000" swAng="-5400000"/>
                <a:lnTo>
                  <a:pt x="19963" y="79702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้มครอ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้าน 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ะหว่า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ู้ให้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ู้ร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5,765,9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00560" y="5435640"/>
            <a:ext cx="595440" cy="1828800"/>
          </a:xfrm>
          <a:custGeom>
            <a:avLst/>
            <a:gdLst>
              <a:gd name="textAreaLeft" fmla="*/ 12960 w 595440"/>
              <a:gd name="textAreaRight" fmla="*/ 582480 w 59544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314">
                <a:moveTo>
                  <a:pt x="1637" y="0"/>
                </a:moveTo>
                <a:arcTo wR="1637" hR="1637" stAng="16200000" swAng="-5400000"/>
                <a:lnTo>
                  <a:pt x="0" y="64677"/>
                </a:lnTo>
                <a:arcTo wR="1637" hR="1637" stAng="10800000" swAng="-5400000"/>
                <a:lnTo>
                  <a:pt x="19963" y="663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ึกษา วิเคราะห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วิจัย 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ูปแบบ เพื่อ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งค์ความรู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เทคโนโลยีด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ะบบ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ศึกษา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ภาค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ชา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31,878,900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4720" y="5435640"/>
            <a:ext cx="550800" cy="1828800"/>
          </a:xfrm>
          <a:custGeom>
            <a:avLst/>
            <a:gdLst>
              <a:gd name="textAreaLeft" fmla="*/ 11880 w 550800"/>
              <a:gd name="textAreaRight" fmla="*/ 538920 w 5508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71685">
                <a:moveTo>
                  <a:pt x="1637" y="0"/>
                </a:moveTo>
                <a:arcTo wR="1637" hR="1637" stAng="16200000" swAng="-5400000"/>
                <a:lnTo>
                  <a:pt x="0" y="70048"/>
                </a:lnTo>
                <a:arcTo wR="1637" hR="1637" stAng="10800000" swAng="-5400000"/>
                <a:lnTo>
                  <a:pt x="19963" y="71685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มาตร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-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ฐ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83,947,2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5435640"/>
            <a:ext cx="579600" cy="1828800"/>
          </a:xfrm>
          <a:custGeom>
            <a:avLst/>
            <a:gdLst>
              <a:gd name="textAreaLeft" fmla="*/ 12600 w 579600"/>
              <a:gd name="textAreaRight" fmla="*/ 567000 w 579600"/>
              <a:gd name="textAreaTop" fmla="*/ 12600 h 1828800"/>
              <a:gd name="textAreaBottom" fmla="*/ 1816200 h 1828800"/>
            </a:gdLst>
            <a:ahLst/>
            <a:rect l="textAreaLeft" t="textAreaTop" r="textAreaRight" b="textAreaBottom"/>
            <a:pathLst>
              <a:path w="21600" h="68125">
                <a:moveTo>
                  <a:pt x="1637" y="0"/>
                </a:moveTo>
                <a:arcTo wR="1637" hR="1637" stAng="16200000" swAng="-5400000"/>
                <a:lnTo>
                  <a:pt x="0" y="66488"/>
                </a:lnTo>
                <a:arcTo wR="1637" hR="1637" stAng="10800000" swAng="-5400000"/>
                <a:lnTo>
                  <a:pt x="19963" y="68125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รัฐให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ได้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ตาม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งานสุขศึกษ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1,291,7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4320" y="5435640"/>
            <a:ext cx="579600" cy="1828800"/>
          </a:xfrm>
          <a:custGeom>
            <a:avLst/>
            <a:gdLst>
              <a:gd name="textAreaLeft" fmla="*/ 12600 w 579600"/>
              <a:gd name="textAreaRight" fmla="*/ 567000 w 579600"/>
              <a:gd name="textAreaTop" fmla="*/ 12600 h 1828800"/>
              <a:gd name="textAreaBottom" fmla="*/ 1816200 h 1828800"/>
            </a:gdLst>
            <a:ahLst/>
            <a:rect l="textAreaLeft" t="textAreaTop" r="textAreaRight" b="textAreaBottom"/>
            <a:pathLst>
              <a:path w="21600" h="68125">
                <a:moveTo>
                  <a:pt x="1637" y="0"/>
                </a:moveTo>
                <a:arcTo wR="1637" hR="1637" stAng="16200000" swAng="-5400000"/>
                <a:lnTo>
                  <a:pt x="0" y="66488"/>
                </a:lnTo>
                <a:arcTo wR="1637" hR="1637" stAng="10800000" swAng="-5400000"/>
                <a:lnTo>
                  <a:pt x="19963" y="68125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้านอาค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ที่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ทุกระด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01,536,0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endCxn id="168" idx="0"/>
          </p:cNvCxnSpPr>
          <p:nvPr/>
        </p:nvCxnSpPr>
        <p:spPr>
          <a:xfrm rot="5400000">
            <a:off x="1193760" y="5063040"/>
            <a:ext cx="229320" cy="51660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endCxn id="165" idx="0"/>
          </p:cNvCxnSpPr>
          <p:nvPr/>
        </p:nvCxnSpPr>
        <p:spPr>
          <a:xfrm flipH="1" rot="16200000">
            <a:off x="2974320" y="4101480"/>
            <a:ext cx="229320" cy="243972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endCxn id="169" idx="0"/>
          </p:cNvCxnSpPr>
          <p:nvPr/>
        </p:nvCxnSpPr>
        <p:spPr>
          <a:xfrm flipH="1" rot="16200000">
            <a:off x="1532160" y="5306400"/>
            <a:ext cx="229320" cy="2988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endCxn id="170" idx="0"/>
          </p:cNvCxnSpPr>
          <p:nvPr/>
        </p:nvCxnSpPr>
        <p:spPr>
          <a:xfrm flipH="1" rot="16200000">
            <a:off x="1869840" y="5031360"/>
            <a:ext cx="229320" cy="57996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endCxn id="163" idx="0"/>
          </p:cNvCxnSpPr>
          <p:nvPr/>
        </p:nvCxnSpPr>
        <p:spPr>
          <a:xfrm flipH="1" rot="16200000">
            <a:off x="2604960" y="5095800"/>
            <a:ext cx="153000" cy="527400"/>
          </a:xfrm>
          <a:prstGeom prst="curvedConnector3">
            <a:avLst>
              <a:gd name="adj1" fmla="val 22877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endCxn id="164" idx="0"/>
          </p:cNvCxnSpPr>
          <p:nvPr/>
        </p:nvCxnSpPr>
        <p:spPr>
          <a:xfrm flipH="1" rot="16200000">
            <a:off x="2617200" y="4426200"/>
            <a:ext cx="229320" cy="179028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7" idx="0"/>
          </p:cNvCxnSpPr>
          <p:nvPr/>
        </p:nvCxnSpPr>
        <p:spPr>
          <a:xfrm flipH="1" rot="16200000">
            <a:off x="4899240" y="4836600"/>
            <a:ext cx="229320" cy="96948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8945640" y="5969160"/>
            <a:ext cx="96984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จัดทำโดยกลุ่มนโยบายและแผ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สำนักบริห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ปรับปรุง 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ea typeface="DilleniaUPC"/>
              </a:rPr>
              <a:t>13 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ส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ea typeface="DilleniaUPC"/>
              </a:rPr>
              <a:t>.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ค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ea typeface="DilleniaUPC"/>
              </a:rPr>
              <a:t>. 5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ffffff"/>
                </a:solidFill>
                <a:uFillTx/>
                <a:latin typeface="Arial"/>
                <a:ea typeface="DilleniaUPC"/>
              </a:rPr>
              <a:t>(755,901,000 </a:t>
            </a:r>
            <a:r>
              <a:rPr b="1" lang="th-TH" sz="1000" spc="-1" strike="noStrike" u="sng">
                <a:solidFill>
                  <a:srgbClr val="ffffff"/>
                </a:solidFill>
                <a:uFillTx/>
                <a:latin typeface="Arial"/>
                <a:cs typeface="DilleniaUPC"/>
              </a:rPr>
              <a:t>บาท</a:t>
            </a:r>
            <a:r>
              <a:rPr b="1" lang="th-TH" sz="1000" spc="-1" strike="noStrike" u="sng">
                <a:solidFill>
                  <a:srgbClr val="ffffff"/>
                </a:solidFill>
                <a:uFillTx/>
                <a:latin typeface="Arial"/>
                <a:ea typeface="DilleniaUPC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54" idx="2"/>
            <a:endCxn id="160" idx="0"/>
          </p:cNvCxnSpPr>
          <p:nvPr/>
        </p:nvCxnSpPr>
        <p:spPr>
          <a:xfrm flipH="1" rot="16200000">
            <a:off x="6615360" y="5274360"/>
            <a:ext cx="152640" cy="170280"/>
          </a:xfrm>
          <a:prstGeom prst="curvedConnector3">
            <a:avLst>
              <a:gd name="adj1" fmla="val 2529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endCxn id="166" idx="0"/>
          </p:cNvCxnSpPr>
          <p:nvPr/>
        </p:nvCxnSpPr>
        <p:spPr>
          <a:xfrm flipH="1" rot="16200000">
            <a:off x="5779440" y="5085720"/>
            <a:ext cx="229320" cy="47124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7753320" y="5435640"/>
            <a:ext cx="511200" cy="1828800"/>
          </a:xfrm>
          <a:custGeom>
            <a:avLst/>
            <a:gdLst>
              <a:gd name="textAreaLeft" fmla="*/ 11160 w 511200"/>
              <a:gd name="textAreaRight" fmla="*/ 500040 w 511200"/>
              <a:gd name="textAreaTop" fmla="*/ 11160 h 1828800"/>
              <a:gd name="textAreaBottom" fmla="*/ 1817640 h 1828800"/>
            </a:gdLst>
            <a:ahLst/>
            <a:rect l="textAreaLeft" t="textAreaTop" r="textAreaRight" b="textAreaBottom"/>
            <a:pathLst>
              <a:path w="21600" h="77234">
                <a:moveTo>
                  <a:pt x="1637" y="0"/>
                </a:moveTo>
                <a:arcTo wR="1637" hR="1637" stAng="16200000" swAng="-5400000"/>
                <a:lnTo>
                  <a:pt x="0" y="75597"/>
                </a:lnTo>
                <a:arcTo wR="1637" hR="1637" stAng="10800000" swAng="-5400000"/>
                <a:lnTo>
                  <a:pt x="19963" y="7723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ักย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าสาสมัค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าธารณสุ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จ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หมู่บ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)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เฝ้าร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วังโรค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ูแลผู้ป่ว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ชุม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45,000,0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50200" y="5435640"/>
            <a:ext cx="509760" cy="1828800"/>
          </a:xfrm>
          <a:custGeom>
            <a:avLst/>
            <a:gdLst>
              <a:gd name="textAreaLeft" fmla="*/ 11160 w 509760"/>
              <a:gd name="textAreaRight" fmla="*/ 498600 w 509760"/>
              <a:gd name="textAreaTop" fmla="*/ 11160 h 1828800"/>
              <a:gd name="textAreaBottom" fmla="*/ 1817640 h 1828800"/>
            </a:gdLst>
            <a:ahLst/>
            <a:rect l="textAreaLeft" t="textAreaTop" r="textAreaRight" b="textAreaBottom"/>
            <a:pathLst>
              <a:path w="21600" h="77452">
                <a:moveTo>
                  <a:pt x="1637" y="0"/>
                </a:moveTo>
                <a:arcTo wR="1637" hR="1637" stAng="16200000" swAng="-5400000"/>
                <a:lnTo>
                  <a:pt x="0" y="75815"/>
                </a:lnTo>
                <a:arcTo wR="1637" hR="1637" stAng="10800000" swAng="-5400000"/>
                <a:lnTo>
                  <a:pt x="19963" y="77452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ักย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้องกั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รคที่เป็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ัยคุกค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ไข้หวั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นก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/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ไข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หวัดใหญ่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20,298,0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1160" y="5435640"/>
            <a:ext cx="425520" cy="1828800"/>
          </a:xfrm>
          <a:custGeom>
            <a:avLst/>
            <a:gdLst>
              <a:gd name="textAreaLeft" fmla="*/ 9360 w 425520"/>
              <a:gd name="textAreaRight" fmla="*/ 416160 w 425520"/>
              <a:gd name="textAreaTop" fmla="*/ 9360 h 1828800"/>
              <a:gd name="textAreaBottom" fmla="*/ 1819440 h 1828800"/>
            </a:gdLst>
            <a:ahLst/>
            <a:rect l="textAreaLeft" t="textAreaTop" r="textAreaRight" b="textAreaBottom"/>
            <a:pathLst>
              <a:path w="21600" h="92772">
                <a:moveTo>
                  <a:pt x="1637" y="0"/>
                </a:moveTo>
                <a:arcTo wR="1637" hR="1637" stAng="16200000" swAng="-5400000"/>
                <a:lnTo>
                  <a:pt x="0" y="91135"/>
                </a:lnTo>
                <a:arcTo wR="1637" hR="1637" stAng="10800000" swAng="-5400000"/>
                <a:lnTo>
                  <a:pt x="19963" y="92772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บริการ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ตติยภูมิ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ูนย์โรค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หัวใจ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ูนย์โรค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ะเร็ง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เครือ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ข่ายควบ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มการ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ดเจ็บ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ห่งชาติ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พ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ศ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.255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-255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(-  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"/>
          <p:cNvCxnSpPr>
            <a:endCxn id="183" idx="0"/>
          </p:cNvCxnSpPr>
          <p:nvPr/>
        </p:nvCxnSpPr>
        <p:spPr>
          <a:xfrm flipH="1" rot="16200000">
            <a:off x="3957840" y="4489560"/>
            <a:ext cx="214920" cy="1677960"/>
          </a:xfrm>
          <a:prstGeom prst="curvedConnector3">
            <a:avLst>
              <a:gd name="adj1" fmla="val 19966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185" name=""/>
          <p:cNvCxnSpPr>
            <a:stCxn id="158" idx="2"/>
            <a:endCxn id="159" idx="0"/>
          </p:cNvCxnSpPr>
          <p:nvPr/>
        </p:nvCxnSpPr>
        <p:spPr>
          <a:xfrm rot="5400000">
            <a:off x="7535160" y="5090760"/>
            <a:ext cx="222480" cy="468000"/>
          </a:xfrm>
          <a:prstGeom prst="curvedConnector3">
            <a:avLst>
              <a:gd name="adj1" fmla="val 27066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58" idx="2"/>
            <a:endCxn id="181" idx="0"/>
          </p:cNvCxnSpPr>
          <p:nvPr/>
        </p:nvCxnSpPr>
        <p:spPr>
          <a:xfrm flipH="1" rot="16200000">
            <a:off x="7833600" y="5259960"/>
            <a:ext cx="222480" cy="128880"/>
          </a:xfrm>
          <a:prstGeom prst="curvedConnector3">
            <a:avLst>
              <a:gd name="adj1" fmla="val 23987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187" name=""/>
          <p:cNvCxnSpPr>
            <a:stCxn id="158" idx="2"/>
            <a:endCxn id="182" idx="0"/>
          </p:cNvCxnSpPr>
          <p:nvPr/>
        </p:nvCxnSpPr>
        <p:spPr>
          <a:xfrm flipH="1" rot="16200000">
            <a:off x="8131680" y="4961880"/>
            <a:ext cx="222480" cy="725040"/>
          </a:xfrm>
          <a:prstGeom prst="curvedConnector3">
            <a:avLst>
              <a:gd name="adj1" fmla="val 23987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9371160" y="5207040"/>
            <a:ext cx="107640" cy="152280"/>
          </a:xfrm>
          <a:prstGeom prst="downArrow">
            <a:avLst>
              <a:gd name="adj1" fmla="val 50000"/>
              <a:gd name="adj2" fmla="val 3536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540720" y="4521240"/>
            <a:ext cx="86040" cy="152280"/>
          </a:xfrm>
          <a:prstGeom prst="downArrow">
            <a:avLst>
              <a:gd name="adj1" fmla="val 50000"/>
              <a:gd name="adj2" fmla="val 4424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626760" y="3913200"/>
            <a:ext cx="107640" cy="150840"/>
          </a:xfrm>
          <a:prstGeom prst="downArrow">
            <a:avLst>
              <a:gd name="adj1" fmla="val 50000"/>
              <a:gd name="adj2" fmla="val 350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3880" y="3378240"/>
            <a:ext cx="106560" cy="152280"/>
          </a:xfrm>
          <a:prstGeom prst="downArrow">
            <a:avLst>
              <a:gd name="adj1" fmla="val 50000"/>
              <a:gd name="adj2" fmla="val 3572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371160" y="1701720"/>
            <a:ext cx="107640" cy="152640"/>
          </a:xfrm>
          <a:prstGeom prst="downArrow">
            <a:avLst>
              <a:gd name="adj1" fmla="val 50000"/>
              <a:gd name="adj2" fmla="val 354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3880" y="2387520"/>
            <a:ext cx="106560" cy="152640"/>
          </a:xfrm>
          <a:prstGeom prst="downArrow">
            <a:avLst>
              <a:gd name="adj1" fmla="val 50000"/>
              <a:gd name="adj2" fmla="val 358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80280" y="1244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1244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7400" y="1701720"/>
            <a:ext cx="107640" cy="152640"/>
          </a:xfrm>
          <a:prstGeom prst="downArrow">
            <a:avLst>
              <a:gd name="adj1" fmla="val 50000"/>
              <a:gd name="adj2" fmla="val 354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41840" y="17017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387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94280" y="2387520"/>
            <a:ext cx="85680" cy="152640"/>
          </a:xfrm>
          <a:prstGeom prst="downArrow">
            <a:avLst>
              <a:gd name="adj1" fmla="val 50000"/>
              <a:gd name="adj2" fmla="val 445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44960" y="2387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rot="19047000">
            <a:off x="6903720" y="2352600"/>
            <a:ext cx="105840" cy="225360"/>
          </a:xfrm>
          <a:prstGeom prst="downArrow">
            <a:avLst>
              <a:gd name="adj1" fmla="val 50000"/>
              <a:gd name="adj2" fmla="val 532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28640" y="3378240"/>
            <a:ext cx="106560" cy="152280"/>
          </a:xfrm>
          <a:prstGeom prst="downArrow">
            <a:avLst>
              <a:gd name="adj1" fmla="val 50000"/>
              <a:gd name="adj2" fmla="val 3572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4200" y="3378240"/>
            <a:ext cx="85680" cy="152280"/>
          </a:xfrm>
          <a:prstGeom prst="downArrow">
            <a:avLst>
              <a:gd name="adj1" fmla="val 50000"/>
              <a:gd name="adj2" fmla="val 444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8560" y="3987720"/>
            <a:ext cx="106560" cy="152640"/>
          </a:xfrm>
          <a:prstGeom prst="downArrow">
            <a:avLst>
              <a:gd name="adj1" fmla="val 50000"/>
              <a:gd name="adj2" fmla="val 358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rot="19047000">
            <a:off x="2983680" y="3913200"/>
            <a:ext cx="111240" cy="223920"/>
          </a:xfrm>
          <a:prstGeom prst="downArrow">
            <a:avLst>
              <a:gd name="adj1" fmla="val 50000"/>
              <a:gd name="adj2" fmla="val 5032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rot="19047000">
            <a:off x="4435560" y="3912840"/>
            <a:ext cx="108000" cy="223920"/>
          </a:xfrm>
          <a:prstGeom prst="downArrow">
            <a:avLst>
              <a:gd name="adj1" fmla="val 50000"/>
              <a:gd name="adj2" fmla="val 518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44960" y="3378240"/>
            <a:ext cx="108000" cy="152280"/>
          </a:xfrm>
          <a:prstGeom prst="downArrow">
            <a:avLst>
              <a:gd name="adj1" fmla="val 50000"/>
              <a:gd name="adj2" fmla="val 352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83400" y="3378240"/>
            <a:ext cx="108000" cy="152280"/>
          </a:xfrm>
          <a:prstGeom prst="downArrow">
            <a:avLst>
              <a:gd name="adj1" fmla="val 50000"/>
              <a:gd name="adj2" fmla="val 352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9047000">
            <a:off x="6137640" y="3913200"/>
            <a:ext cx="106560" cy="223920"/>
          </a:xfrm>
          <a:prstGeom prst="downArrow">
            <a:avLst>
              <a:gd name="adj1" fmla="val 50000"/>
              <a:gd name="adj2" fmla="val 5253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08920" y="3913200"/>
            <a:ext cx="85680" cy="150840"/>
          </a:xfrm>
          <a:prstGeom prst="downArrow">
            <a:avLst>
              <a:gd name="adj1" fmla="val 50000"/>
              <a:gd name="adj2" fmla="val 440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00240" y="4521240"/>
            <a:ext cx="109440" cy="152280"/>
          </a:xfrm>
          <a:prstGeom prst="downArrow">
            <a:avLst>
              <a:gd name="adj1" fmla="val 50000"/>
              <a:gd name="adj2" fmla="val 3478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rot="19047000">
            <a:off x="2391840" y="4520880"/>
            <a:ext cx="108000" cy="225360"/>
          </a:xfrm>
          <a:prstGeom prst="downArrow">
            <a:avLst>
              <a:gd name="adj1" fmla="val 50000"/>
              <a:gd name="adj2" fmla="val 521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047000">
            <a:off x="3752280" y="4521240"/>
            <a:ext cx="109440" cy="225360"/>
          </a:xfrm>
          <a:prstGeom prst="downArrow">
            <a:avLst>
              <a:gd name="adj1" fmla="val 50000"/>
              <a:gd name="adj2" fmla="val 5148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16680" y="4521240"/>
            <a:ext cx="107640" cy="152280"/>
          </a:xfrm>
          <a:prstGeom prst="downArrow">
            <a:avLst>
              <a:gd name="adj1" fmla="val 50000"/>
              <a:gd name="adj2" fmla="val 3536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6480" y="4521240"/>
            <a:ext cx="76320" cy="15228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180280" y="4521240"/>
            <a:ext cx="108000" cy="152280"/>
          </a:xfrm>
          <a:prstGeom prst="downArrow">
            <a:avLst>
              <a:gd name="adj1" fmla="val 50000"/>
              <a:gd name="adj2" fmla="val 352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1720" y="6336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- 159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11720" y="722304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- 159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9D9-CEEF-4B0A-B1A6-2B731C0BD43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17:41:46Z</dcterms:created>
  <dc:creator>BKK</dc:creator>
  <dc:description/>
  <dc:language>en-US</dc:language>
  <cp:lastModifiedBy>Microsoft</cp:lastModifiedBy>
  <dcterms:modified xsi:type="dcterms:W3CDTF">2008-11-08T13:54:15Z</dcterms:modified>
  <cp:revision>790</cp:revision>
  <dc:subject/>
  <dc:title>Slide 1</dc:title>
</cp:coreProperties>
</file>