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152063" cy="7616825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118-93E4-4FAF-BCC4-5B68F02F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3F5-AC91-48DB-B534-6DAA809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829-43A1-45C6-94B7-75F17130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024-EAD4-4AF8-967E-4E276BC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CAF5E-070A-4665-8127-6111CE23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DB4F-2898-49CE-B2E0-6E4798F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F161-B4BE-4B63-B771-DC0868C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3272-1CB7-4734-A3BF-6C3C2057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7B6A7-E5F2-4B3A-AC12-20258D0F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A217-5DB7-4ACC-982E-2CB0095F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86CF2-0B30-4DFD-81C9-B459098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845-7F98-436F-8B9D-7D351FD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0E0E5-2E82-446F-9B05-9311508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BC5D9-3F9E-48AC-B80B-F452315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67383-F034-427B-8E45-0D4574A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4FC6D-72A3-410C-8DB8-A25D8788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0C2C1-82DF-4DB3-9C28-1EA45A45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622-795D-43D2-B1BC-86878CDB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365-8E1C-4111-B4D1-955A6A3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BE7-5136-47B0-8F3D-3DE8790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A1D-3FCD-4BFD-B4FC-618E437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F9D-5ACB-4E30-AECC-46F824B1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DB7-695D-49C6-9DD3-D4ABBBD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6BD-7220-4DDD-A3E1-B8DB2E1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50200" cy="7616160"/>
            <a:chOff x="0" y="0"/>
            <a:chExt cx="10150200" cy="7616160"/>
          </a:xfrm>
        </p:grpSpPr>
        <p:sp>
          <p:nvSpPr>
            <p:cNvPr id="1" name=""/>
            <p:cNvSpPr/>
            <p:nvPr/>
          </p:nvSpPr>
          <p:spPr>
            <a:xfrm>
              <a:off x="0" y="541620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935760" y="695628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686640"/>
            <a:ext cx="8711280" cy="950040"/>
            <a:chOff x="0" y="6686640"/>
            <a:chExt cx="8711280" cy="950040"/>
          </a:xfrm>
        </p:grpSpPr>
        <p:sp>
          <p:nvSpPr>
            <p:cNvPr id="5" name=""/>
            <p:cNvSpPr/>
            <p:nvPr/>
          </p:nvSpPr>
          <p:spPr>
            <a:xfrm>
              <a:off x="2622240" y="6686640"/>
              <a:ext cx="5709240" cy="9432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380840" y="6686640"/>
              <a:ext cx="4330440" cy="950040"/>
              <a:chOff x="4380840" y="6686640"/>
              <a:chExt cx="4330440" cy="950040"/>
            </a:xfrm>
          </p:grpSpPr>
          <p:sp>
            <p:nvSpPr>
              <p:cNvPr id="7" name=""/>
              <p:cNvSpPr/>
              <p:nvPr/>
            </p:nvSpPr>
            <p:spPr>
              <a:xfrm>
                <a:off x="6956640" y="6698880"/>
                <a:ext cx="1754640" cy="9378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717080" y="6686640"/>
                <a:ext cx="327600" cy="6951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8800" y="6864120"/>
                <a:ext cx="666000" cy="4766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392520" y="681660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0840" y="6804360"/>
                <a:ext cx="73800" cy="142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686640"/>
              <a:ext cx="7006320" cy="9417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14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945CD74-F8BA-46C7-9F59-417641674FE8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2320"/>
            <a:ext cx="10150200" cy="7616160"/>
            <a:chOff x="-6480" y="22320"/>
            <a:chExt cx="10150200" cy="7616160"/>
          </a:xfrm>
        </p:grpSpPr>
        <p:sp>
          <p:nvSpPr>
            <p:cNvPr id="62" name=""/>
            <p:cNvSpPr/>
            <p:nvPr/>
          </p:nvSpPr>
          <p:spPr>
            <a:xfrm>
              <a:off x="-6480" y="543852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232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29280" y="696276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702480"/>
            <a:ext cx="8707680" cy="944280"/>
            <a:chOff x="-1440" y="6702480"/>
            <a:chExt cx="8707680" cy="944280"/>
          </a:xfrm>
        </p:grpSpPr>
        <p:sp>
          <p:nvSpPr>
            <p:cNvPr id="66" name=""/>
            <p:cNvSpPr/>
            <p:nvPr/>
          </p:nvSpPr>
          <p:spPr>
            <a:xfrm>
              <a:off x="2620800" y="6702480"/>
              <a:ext cx="5709240" cy="9442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379400" y="6702480"/>
              <a:ext cx="4326840" cy="943920"/>
              <a:chOff x="4379400" y="6702480"/>
              <a:chExt cx="4326840" cy="943920"/>
            </a:xfrm>
          </p:grpSpPr>
          <p:sp>
            <p:nvSpPr>
              <p:cNvPr id="68" name=""/>
              <p:cNvSpPr/>
              <p:nvPr/>
            </p:nvSpPr>
            <p:spPr>
              <a:xfrm>
                <a:off x="6955200" y="6714720"/>
                <a:ext cx="1751040" cy="9316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15640" y="6702480"/>
                <a:ext cx="327600" cy="695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7360" y="6879960"/>
                <a:ext cx="666000" cy="4773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1080" y="683244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9400" y="6820200"/>
                <a:ext cx="73800" cy="142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702480"/>
              <a:ext cx="7006320" cy="9428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75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1608120"/>
            <a:ext cx="91346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22604802-E6D0-4185-BBAD-DBCFC98CA23C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396360" y="5248440"/>
            <a:ext cx="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880" y="212760"/>
            <a:ext cx="94806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  ปี </a:t>
            </a:r>
            <a:r>
              <a:rPr b="1" lang="th-TH" sz="2400" spc="-1" strike="noStrike">
                <a:solidFill>
                  <a:srgbClr val="ff33cc"/>
                </a:solidFill>
                <a:latin typeface="Cordia New"/>
                <a:ea typeface="LilyUPC"/>
              </a:rPr>
              <a:t>255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3760" y="920880"/>
            <a:ext cx="150480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สรรงบประมา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2200" y="1474920"/>
            <a:ext cx="1295640" cy="21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ผนงา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2040" y="1397160"/>
            <a:ext cx="455940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3.3 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ด้านสาธารณสุ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560" y="1397160"/>
            <a:ext cx="348948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3.5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วัสดิการสังคมและความมั่นคงของมนุษย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1854360"/>
            <a:ext cx="906480" cy="66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85920" y="1854360"/>
            <a:ext cx="29782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ได้รับบริกา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 และบริโภคผลิตภัณฑ์สุขภาพที่มีคุณภาพมาตรฐ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ย่างทั่วถึงและเป็นธร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4200" y="1854360"/>
            <a:ext cx="280980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พฤติกรรมสุขภาพที่ถูกต้อง สามารถลดภาระโร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ัยคุกคามและความรุนแรงด้านสุขภาพได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4000" y="1854360"/>
            <a:ext cx="284148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บำบัดรักษา ฟื้นฟู เฝ้าระวั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ารใช้วัตถุเสพติดให้สามารถดำเนินชีวิตได้ตามปกติในสังคม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2692440"/>
            <a:ext cx="681120" cy="51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606760"/>
            <a:ext cx="263700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ระบบบริการทางการแพทย์ สาธารณสุขและผลิตภัณฑ์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มีคุณภาพมาตรฐาน สร้างความมั่นใจให้กับประชาช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2540160"/>
            <a:ext cx="2211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6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ปัจจัยพื้นฐานของการมีพฤติกรรมสุขภาพที่ถูกต้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ัฒนาประสิทธิภาพเครือข่ายระบบเฝ้าระวัง การป้องกั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ควบคุมโรคและภัย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99280" y="2540160"/>
            <a:ext cx="201780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7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และพัฒนาศักยภาพของอาสาสมัคร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ีเครือข่ายในการดำเนินกิจกรรมด้าน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การมีส่วนร่วมจากทุกภาคส่ว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540160"/>
            <a:ext cx="1527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ระบบการเฝ้าระวัง ควบคุม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 บำบัดรักษาและฟื้นฟูสภาพข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ผู้เสพและผู้ติดยาเสพติ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มีประสิทธิภาพและยั่งยื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960" y="3454560"/>
            <a:ext cx="765360" cy="65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หน่วยง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00240" y="3530520"/>
            <a:ext cx="210024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ถานบริการสุขภาพ  ภาครัฐ  เอกชน  และสถานประกอบการธุรกิจบริการสุขภาพมี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48680" y="3530520"/>
            <a:ext cx="16351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ัญหายาเสพติดมีคุณ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530520"/>
            <a:ext cx="14320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ู้บริโภคมีความรู้ความเข้าใ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นการใช้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0920" y="3530520"/>
            <a:ext cx="14605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มีความรู้ที่จำเป็นแล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ฤติกรรมที่ถูกต้องในการดูแล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8560" y="3530520"/>
            <a:ext cx="17017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สาธารณสุขประจำหมู่บ้าน ภาค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ครือข่ายมีส่วนร่วมในการจัดการสุขภาพชุมช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600" y="4172040"/>
            <a:ext cx="636480" cy="3618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30320" y="4064040"/>
            <a:ext cx="17035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 สนับสนุน พัฒนา และควบคุ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ำกับ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ห้ได้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4064040"/>
            <a:ext cx="114768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องค์ความรู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ด้าน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080" y="4064040"/>
            <a:ext cx="138744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สริมสร้างจิตสำนึกความรู้และทักษ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ที่จำเป็นแก่ประชาชนให้ม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ฤติกรรมสุขภาพที่เหมาะส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67520" y="4064040"/>
            <a:ext cx="145260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สนับสนุนองค์กรอาสาสมัค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าธารณสุขประจำหมู่บ้าน 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ea typeface="Angsana New"/>
              </a:rPr>
              <a:t>(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สม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ea typeface="Angsana New"/>
              </a:rPr>
              <a:t>.) 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กครองส่วนท้องถิ่น และ ภาคีเครือข่าย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นการจัดการสุขภาพชุมช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04360" y="4064040"/>
            <a:ext cx="13111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พัฒนาระบบรายงาน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และเฝ้าระวังปัญห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ยาเสพติด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1480" y="4064040"/>
            <a:ext cx="153036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ความรู้ ความเข้าใจในการใช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ริการสุขภาพระหว่างผู้ให้และผู้รั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745160"/>
            <a:ext cx="1368720" cy="71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ถานบริการสุขภาพ  ภาครัฐ  เอกชน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สถานประกอบการธุรกิจ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ได้รับการส่งเสริม พัฒนา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นับสนุน ประสาน ควบคุม กำกับ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คุณภาพมาตรฐ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2200" y="4746600"/>
            <a:ext cx="1152720" cy="57456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ลงานการวิจัย พัฒนาองค์ความรู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เทคโนโลยีด้านระบบ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 สุขศึกษาและสุขภาพภาค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880" y="4826160"/>
            <a:ext cx="447840" cy="59256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ผ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ผลิ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746600"/>
            <a:ext cx="1409760" cy="430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กลุ่มเป้าหมายได้รับการถ่ายทอด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ความรู้ด้านสุขภาพเพื่อนำไปสู่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ับเปลี่ยนพฤติกรรม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20120" y="4746600"/>
            <a:ext cx="14479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ัญหายาเสพติดได้รับการปรับปรุง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746600"/>
            <a:ext cx="1006200" cy="35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ลงานการส่งเสริม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ู้บริโภคด้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26360" y="4746600"/>
            <a:ext cx="1108080" cy="7174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สาธารณสุขประจำ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หมู่บ้าน องค์กรปก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วนท้องถิ่น ภาคีเครือข่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ารส่งเสริมและสนับสนุนให้มี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ิจกรรมด้าน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88200" y="5724360"/>
            <a:ext cx="569880" cy="1684440"/>
          </a:xfrm>
          <a:custGeom>
            <a:avLst/>
            <a:gdLst>
              <a:gd name="textAreaLeft" fmla="*/ 12600 w 569880"/>
              <a:gd name="textAreaRight" fmla="*/ 557280 w 569880"/>
              <a:gd name="textAreaTop" fmla="*/ 12600 h 1684440"/>
              <a:gd name="textAreaBottom" fmla="*/ 1671840 h 1684440"/>
            </a:gdLst>
            <a:ahLst/>
            <a:rect l="textAreaLeft" t="textAreaTop" r="textAreaRight" b="textAreaBottom"/>
            <a:pathLst>
              <a:path w="21600" h="63818">
                <a:moveTo>
                  <a:pt x="1637" y="0"/>
                </a:moveTo>
                <a:arcTo wR="1637" hR="1637" stAng="16200000" swAng="-5400000"/>
                <a:lnTo>
                  <a:pt x="0" y="62181"/>
                </a:lnTo>
                <a:arcTo wR="1637" hR="1637" stAng="10800000" swAng="-5400000"/>
                <a:lnTo>
                  <a:pt x="19963" y="63818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หมู่บ้าน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.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กครองส่ว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ท้องถิ่น ภาค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ครือข่าย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ารจ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ิจ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0920" y="5722920"/>
            <a:ext cx="486000" cy="1541520"/>
          </a:xfrm>
          <a:custGeom>
            <a:avLst/>
            <a:gdLst>
              <a:gd name="textAreaLeft" fmla="*/ 10440 w 486000"/>
              <a:gd name="textAreaRight" fmla="*/ 475560 w 486000"/>
              <a:gd name="textAreaTop" fmla="*/ 10440 h 1541520"/>
              <a:gd name="textAreaBottom" fmla="*/ 1531080 h 1541520"/>
            </a:gdLst>
            <a:ahLst/>
            <a:rect l="textAreaLeft" t="textAreaTop" r="textAreaRight" b="textAreaBottom"/>
            <a:pathLst>
              <a:path w="21600" h="68477">
                <a:moveTo>
                  <a:pt x="1637" y="0"/>
                </a:moveTo>
                <a:arcTo wR="1637" hR="1637" stAng="16200000" swAng="-5400000"/>
                <a:lnTo>
                  <a:pt x="0" y="66840"/>
                </a:lnTo>
                <a:arcTo wR="1637" hR="1637" stAng="10800000" swAng="-5400000"/>
                <a:lnTo>
                  <a:pt x="19963" y="68477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ถ่ายทอ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ามรู้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ู่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ุ่มเป้า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45640" y="5464080"/>
            <a:ext cx="938160" cy="47016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ระบบรายง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เฝ้าระวังปัญหายาเสพติ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960" y="5897520"/>
            <a:ext cx="425520" cy="9504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ิ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ร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หลั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5724360"/>
            <a:ext cx="505080" cy="1468440"/>
          </a:xfrm>
          <a:custGeom>
            <a:avLst/>
            <a:gdLst>
              <a:gd name="textAreaLeft" fmla="*/ 11160 w 505080"/>
              <a:gd name="textAreaRight" fmla="*/ 493920 w 50508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769">
                <a:moveTo>
                  <a:pt x="1637" y="0"/>
                </a:moveTo>
                <a:arcTo wR="1637" hR="1637" stAng="16200000" swAng="-5400000"/>
                <a:lnTo>
                  <a:pt x="0" y="61132"/>
                </a:lnTo>
                <a:arcTo wR="1637" hR="1637" stAng="10800000" swAng="-5400000"/>
                <a:lnTo>
                  <a:pt x="19963" y="6276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วิศว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แพทย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11480" y="5724360"/>
            <a:ext cx="595440" cy="146844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468440"/>
              <a:gd name="textAreaBottom" fmla="*/ 1455480 h 1468440"/>
            </a:gdLst>
            <a:ahLst/>
            <a:rect l="textAreaLeft" t="textAreaTop" r="textAreaRight" b="textAreaBottom"/>
            <a:pathLst>
              <a:path w="21600" h="53250">
                <a:moveTo>
                  <a:pt x="1637" y="0"/>
                </a:moveTo>
                <a:arcTo wR="1637" hR="1637" stAng="16200000" swAng="-5400000"/>
                <a:lnTo>
                  <a:pt x="0" y="51613"/>
                </a:lnTo>
                <a:arcTo wR="1637" hR="1637" stAng="10800000" swAng="-5400000"/>
                <a:lnTo>
                  <a:pt x="19963" y="53250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ภาคเอกชน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มาตรฐานตามที่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ฎ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456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5722920"/>
            <a:ext cx="431640" cy="154152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541520"/>
              <a:gd name="textAreaBottom" fmla="*/ 1532160 h 1541520"/>
            </a:gdLst>
            <a:ahLst/>
            <a:rect l="textAreaLeft" t="textAreaTop" r="textAreaRight" b="textAreaBottom"/>
            <a:pathLst>
              <a:path w="21600" h="77094">
                <a:moveTo>
                  <a:pt x="1637" y="0"/>
                </a:moveTo>
                <a:arcTo wR="1637" hR="1637" stAng="16200000" swAng="-5400000"/>
                <a:lnTo>
                  <a:pt x="0" y="75457"/>
                </a:lnTo>
                <a:arcTo wR="1637" hR="1637" stAng="10800000" swAng="-5400000"/>
                <a:lnTo>
                  <a:pt x="19963" y="7709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ด้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722920"/>
            <a:ext cx="541080" cy="1541520"/>
          </a:xfrm>
          <a:custGeom>
            <a:avLst/>
            <a:gdLst>
              <a:gd name="textAreaLeft" fmla="*/ 11880 w 541080"/>
              <a:gd name="textAreaRight" fmla="*/ 529200 w 541080"/>
              <a:gd name="textAreaTop" fmla="*/ 11880 h 1541520"/>
              <a:gd name="textAreaBottom" fmla="*/ 1529640 h 1541520"/>
            </a:gdLst>
            <a:ahLst/>
            <a:rect l="textAreaLeft" t="textAreaTop" r="textAreaRight" b="textAreaBottom"/>
            <a:pathLst>
              <a:path w="21600" h="61511">
                <a:moveTo>
                  <a:pt x="1637" y="0"/>
                </a:moveTo>
                <a:arcTo wR="1637" hR="1637" stAng="16200000" swAng="-5400000"/>
                <a:lnTo>
                  <a:pt x="0" y="59874"/>
                </a:lnTo>
                <a:arcTo wR="1637" hR="1637" stAng="10800000" swAng="-5400000"/>
                <a:lnTo>
                  <a:pt x="19963" y="61511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ึกษา วิเคราะห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ิจัย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ูปแบบ เพื่อ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งค์ความรู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ทคโนโลยี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ศึกษ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5724360"/>
            <a:ext cx="550800" cy="1468440"/>
          </a:xfrm>
          <a:custGeom>
            <a:avLst/>
            <a:gdLst>
              <a:gd name="textAreaLeft" fmla="*/ 11880 w 550800"/>
              <a:gd name="textAreaRight" fmla="*/ 538920 w 550800"/>
              <a:gd name="textAreaTop" fmla="*/ 11880 h 1468440"/>
              <a:gd name="textAreaBottom" fmla="*/ 1456560 h 1468440"/>
            </a:gdLst>
            <a:ahLst/>
            <a:rect l="textAreaLeft" t="textAreaTop" r="textAreaRight" b="textAreaBottom"/>
            <a:pathLst>
              <a:path w="21600" h="57562">
                <a:moveTo>
                  <a:pt x="1637" y="0"/>
                </a:moveTo>
                <a:arcTo wR="1637" hR="1637" stAng="16200000" swAng="-5400000"/>
                <a:lnTo>
                  <a:pt x="0" y="55925"/>
                </a:lnTo>
                <a:arcTo wR="1637" hR="1637" stAng="10800000" swAng="-5400000"/>
                <a:lnTo>
                  <a:pt x="19963" y="5756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มาตร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ฐ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184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รัฐให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านสุขศึกษ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820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อาค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ที่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ุกระด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45640" y="6256440"/>
            <a:ext cx="969840" cy="8557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โดย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ลุ่มนโยบายและแผ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ำนักบริห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 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10 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ส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.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ค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.255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26760" y="3913200"/>
            <a:ext cx="107640" cy="150840"/>
          </a:xfrm>
          <a:prstGeom prst="downArrow">
            <a:avLst>
              <a:gd name="adj1" fmla="val 50000"/>
              <a:gd name="adj2" fmla="val 35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388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7116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3880" y="23875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88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740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1840" y="17017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2432160"/>
            <a:ext cx="142920" cy="223560"/>
          </a:xfrm>
          <a:prstGeom prst="downArrow">
            <a:avLst>
              <a:gd name="adj1" fmla="val 50000"/>
              <a:gd name="adj2" fmla="val 391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0920" y="2368440"/>
            <a:ext cx="122040" cy="216000"/>
          </a:xfrm>
          <a:prstGeom prst="downArrow">
            <a:avLst>
              <a:gd name="adj1" fmla="val 50000"/>
              <a:gd name="adj2" fmla="val 4424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19047000">
            <a:off x="6803280" y="2368080"/>
            <a:ext cx="106560" cy="225360"/>
          </a:xfrm>
          <a:prstGeom prst="downArrow">
            <a:avLst>
              <a:gd name="adj1" fmla="val 50000"/>
              <a:gd name="adj2" fmla="val 5287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8560" y="39877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rot="19047000">
            <a:off x="2983680" y="3913200"/>
            <a:ext cx="111240" cy="223920"/>
          </a:xfrm>
          <a:prstGeom prst="downArrow">
            <a:avLst>
              <a:gd name="adj1" fmla="val 50000"/>
              <a:gd name="adj2" fmla="val 5032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9047000">
            <a:off x="4435560" y="3912840"/>
            <a:ext cx="108000" cy="223920"/>
          </a:xfrm>
          <a:prstGeom prst="downArrow">
            <a:avLst>
              <a:gd name="adj1" fmla="val 50000"/>
              <a:gd name="adj2" fmla="val 518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2560" y="337644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9047000">
            <a:off x="6137640" y="3913200"/>
            <a:ext cx="106560" cy="223920"/>
          </a:xfrm>
          <a:prstGeom prst="downArrow">
            <a:avLst>
              <a:gd name="adj1" fmla="val 50000"/>
              <a:gd name="adj2" fmla="val 5253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38920" y="3952800"/>
            <a:ext cx="86040" cy="150840"/>
          </a:xfrm>
          <a:prstGeom prst="downArrow">
            <a:avLst>
              <a:gd name="adj1" fmla="val 50000"/>
              <a:gd name="adj2" fmla="val 4382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4920" y="4592520"/>
            <a:ext cx="109440" cy="152640"/>
          </a:xfrm>
          <a:prstGeom prst="downArrow">
            <a:avLst>
              <a:gd name="adj1" fmla="val 50000"/>
              <a:gd name="adj2" fmla="val 348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rot="19047000">
            <a:off x="3752280" y="4521240"/>
            <a:ext cx="109440" cy="225360"/>
          </a:xfrm>
          <a:prstGeom prst="downArrow">
            <a:avLst>
              <a:gd name="adj1" fmla="val 50000"/>
              <a:gd name="adj2" fmla="val 5148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328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9640" y="928800"/>
            <a:ext cx="460836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3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820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ารประกอ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โรคศิลปะ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ตามที่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ฎ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49" idx="2"/>
            <a:endCxn id="166" idx="0"/>
          </p:cNvCxnSpPr>
          <p:nvPr/>
        </p:nvCxnSpPr>
        <p:spPr>
          <a:xfrm flipH="1" rot="16200000">
            <a:off x="1452600" y="5522400"/>
            <a:ext cx="260640" cy="143280"/>
          </a:xfrm>
          <a:prstGeom prst="bentConnector5">
            <a:avLst>
              <a:gd name="adj1" fmla="val 753112"/>
              <a:gd name="adj2" fmla="val 641057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49" idx="2"/>
            <a:endCxn id="165" idx="0"/>
          </p:cNvCxnSpPr>
          <p:nvPr/>
        </p:nvCxnSpPr>
        <p:spPr>
          <a:xfrm rot="5400000">
            <a:off x="1152720" y="5365800"/>
            <a:ext cx="260640" cy="456840"/>
          </a:xfrm>
          <a:prstGeom prst="bentConnector5">
            <a:avLst>
              <a:gd name="adj1" fmla="val 753112"/>
              <a:gd name="adj2" fmla="val 221845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49" idx="2"/>
            <a:endCxn id="167" idx="0"/>
          </p:cNvCxnSpPr>
          <p:nvPr/>
        </p:nvCxnSpPr>
        <p:spPr>
          <a:xfrm flipH="1" rot="16200000">
            <a:off x="1740960" y="5234400"/>
            <a:ext cx="260640" cy="719640"/>
          </a:xfrm>
          <a:prstGeom prst="bentConnector5">
            <a:avLst>
              <a:gd name="adj1" fmla="val 753112"/>
              <a:gd name="adj2" fmla="val 180180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49" idx="2"/>
            <a:endCxn id="160" idx="0"/>
          </p:cNvCxnSpPr>
          <p:nvPr/>
        </p:nvCxnSpPr>
        <p:spPr>
          <a:xfrm flipH="1" rot="16200000">
            <a:off x="2028960" y="4946400"/>
            <a:ext cx="260640" cy="1295640"/>
          </a:xfrm>
          <a:prstGeom prst="bentConnector5">
            <a:avLst>
              <a:gd name="adj1" fmla="val 753112"/>
              <a:gd name="adj2" fmla="val 139938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49" idx="2"/>
            <a:endCxn id="161" idx="0"/>
          </p:cNvCxnSpPr>
          <p:nvPr/>
        </p:nvCxnSpPr>
        <p:spPr>
          <a:xfrm flipH="1" rot="16200000">
            <a:off x="2330280" y="4645080"/>
            <a:ext cx="260640" cy="1898280"/>
          </a:xfrm>
          <a:prstGeom prst="bentConnector5">
            <a:avLst>
              <a:gd name="adj1" fmla="val 225587"/>
              <a:gd name="adj2" fmla="val 60204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49" idx="2"/>
            <a:endCxn id="190" idx="0"/>
          </p:cNvCxnSpPr>
          <p:nvPr/>
        </p:nvCxnSpPr>
        <p:spPr>
          <a:xfrm flipH="1" rot="16200000">
            <a:off x="2640960" y="4334400"/>
            <a:ext cx="260640" cy="2519640"/>
          </a:xfrm>
          <a:prstGeom prst="bentConnector5">
            <a:avLst>
              <a:gd name="adj1" fmla="val 225587"/>
              <a:gd name="adj2" fmla="val 58588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49" idx="2"/>
            <a:endCxn id="162" idx="0"/>
          </p:cNvCxnSpPr>
          <p:nvPr/>
        </p:nvCxnSpPr>
        <p:spPr>
          <a:xfrm flipH="1" rot="16200000">
            <a:off x="2928960" y="4046040"/>
            <a:ext cx="260640" cy="3096000"/>
          </a:xfrm>
          <a:prstGeom prst="bentConnector5">
            <a:avLst>
              <a:gd name="adj1" fmla="val 225587"/>
              <a:gd name="adj2" fmla="val 56983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50" idx="2"/>
            <a:endCxn id="164" idx="0"/>
          </p:cNvCxnSpPr>
          <p:nvPr/>
        </p:nvCxnSpPr>
        <p:spPr>
          <a:xfrm flipH="1" rot="16200000">
            <a:off x="4829400" y="4630320"/>
            <a:ext cx="402120" cy="1783800"/>
          </a:xfrm>
          <a:prstGeom prst="bentConnector5">
            <a:avLst>
              <a:gd name="adj1" fmla="val 161379"/>
              <a:gd name="adj2" fmla="val 55308"/>
              <a:gd name="adj3" fmla="val 42383"/>
            </a:avLst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54" idx="2"/>
            <a:endCxn id="163" idx="0"/>
          </p:cNvCxnSpPr>
          <p:nvPr/>
        </p:nvCxnSpPr>
        <p:spPr>
          <a:xfrm flipH="1" rot="16200000">
            <a:off x="5567400" y="4829040"/>
            <a:ext cx="617760" cy="1170360"/>
          </a:xfrm>
          <a:prstGeom prst="bentConnector5">
            <a:avLst>
              <a:gd name="adj1" fmla="val 417551"/>
              <a:gd name="adj2" fmla="val 138276"/>
              <a:gd name="adj3" fmla="val 62507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52" idx="2"/>
            <a:endCxn id="157" idx="0"/>
          </p:cNvCxnSpPr>
          <p:nvPr/>
        </p:nvCxnSpPr>
        <p:spPr>
          <a:xfrm flipH="1" rot="16200000">
            <a:off x="6500160" y="5248800"/>
            <a:ext cx="546480" cy="402120"/>
          </a:xfrm>
          <a:prstGeom prst="bentConnector3">
            <a:avLst>
              <a:gd name="adj1" fmla="val 9057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55" idx="2"/>
            <a:endCxn id="156" idx="0"/>
          </p:cNvCxnSpPr>
          <p:nvPr/>
        </p:nvCxnSpPr>
        <p:spPr>
          <a:xfrm rot="5400000">
            <a:off x="7596360" y="5440320"/>
            <a:ext cx="260640" cy="307800"/>
          </a:xfrm>
          <a:prstGeom prst="bentConnector5">
            <a:avLst>
              <a:gd name="adj1" fmla="val 1361964"/>
              <a:gd name="adj2" fmla="val 268032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515280" y="4529160"/>
            <a:ext cx="107640" cy="21600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8036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3928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rot="19047000">
            <a:off x="3319920" y="3301560"/>
            <a:ext cx="123840" cy="293400"/>
          </a:xfrm>
          <a:prstGeom prst="downArrow">
            <a:avLst>
              <a:gd name="adj1" fmla="val 50000"/>
              <a:gd name="adj2" fmla="val 5923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3303720"/>
            <a:ext cx="108000" cy="225360"/>
          </a:xfrm>
          <a:prstGeom prst="downArrow">
            <a:avLst>
              <a:gd name="adj1" fmla="val 50000"/>
              <a:gd name="adj2" fmla="val 52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3640" y="337644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91560" y="5724360"/>
            <a:ext cx="511200" cy="1684440"/>
          </a:xfrm>
          <a:custGeom>
            <a:avLst/>
            <a:gdLst>
              <a:gd name="textAreaLeft" fmla="*/ 11160 w 511200"/>
              <a:gd name="textAreaRight" fmla="*/ 500040 w 511200"/>
              <a:gd name="textAreaTop" fmla="*/ 11160 h 1684440"/>
              <a:gd name="textAreaBottom" fmla="*/ 1673280 h 1684440"/>
            </a:gdLst>
            <a:ahLst/>
            <a:rect l="textAreaLeft" t="textAreaTop" r="textAreaRight" b="textAreaBottom"/>
            <a:pathLst>
              <a:path w="21600" h="71139">
                <a:moveTo>
                  <a:pt x="1637" y="0"/>
                </a:moveTo>
                <a:arcTo wR="1637" hR="1637" stAng="16200000" swAng="-5400000"/>
                <a:lnTo>
                  <a:pt x="0" y="69502"/>
                </a:lnTo>
                <a:arcTo wR="1637" hR="1637" stAng="10800000" swAng="-5400000"/>
                <a:lnTo>
                  <a:pt x="19963" y="7113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ู่บ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.)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เฝ้าร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งโรค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ูแลผู้ป่ว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ชุม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1880" y="5724360"/>
            <a:ext cx="509760" cy="1684440"/>
          </a:xfrm>
          <a:custGeom>
            <a:avLst/>
            <a:gdLst>
              <a:gd name="textAreaLeft" fmla="*/ 11160 w 509760"/>
              <a:gd name="textAreaRight" fmla="*/ 498600 w 509760"/>
              <a:gd name="textAreaTop" fmla="*/ 11160 h 1684440"/>
              <a:gd name="textAreaBottom" fmla="*/ 1673280 h 1684440"/>
            </a:gdLst>
            <a:ahLst/>
            <a:rect l="textAreaLeft" t="textAreaTop" r="textAreaRight" b="textAreaBottom"/>
            <a:pathLst>
              <a:path w="21600" h="71339">
                <a:moveTo>
                  <a:pt x="1637" y="0"/>
                </a:moveTo>
                <a:arcTo wR="1637" hR="1637" stAng="16200000" swAng="-5400000"/>
                <a:lnTo>
                  <a:pt x="0" y="69702"/>
                </a:lnTo>
                <a:arcTo wR="1637" hR="1637" stAng="10800000" swAng="-5400000"/>
                <a:lnTo>
                  <a:pt x="19963" y="7133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.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รคที่เป็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ัยคุกค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ข้หว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ก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ข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วัดใหญ่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155" idx="2"/>
            <a:endCxn id="208" idx="0"/>
          </p:cNvCxnSpPr>
          <p:nvPr/>
        </p:nvCxnSpPr>
        <p:spPr>
          <a:xfrm flipH="1" rot="16200000">
            <a:off x="7883640" y="5460480"/>
            <a:ext cx="260640" cy="267120"/>
          </a:xfrm>
          <a:prstGeom prst="bentConnector5">
            <a:avLst>
              <a:gd name="adj1" fmla="val 839834"/>
              <a:gd name="adj2" fmla="val 294601"/>
              <a:gd name="adj3" fmla="val 7192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55" idx="2"/>
            <a:endCxn id="209" idx="0"/>
          </p:cNvCxnSpPr>
          <p:nvPr/>
        </p:nvCxnSpPr>
        <p:spPr>
          <a:xfrm flipH="1" rot="16200000">
            <a:off x="8128440" y="5215680"/>
            <a:ext cx="260640" cy="756720"/>
          </a:xfrm>
          <a:prstGeom prst="bentConnector5">
            <a:avLst>
              <a:gd name="adj1" fmla="val 839834"/>
              <a:gd name="adj2" fmla="val 165635"/>
              <a:gd name="adj3" fmla="val 7192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930920" y="5824440"/>
            <a:ext cx="649080" cy="1368360"/>
          </a:xfrm>
          <a:custGeom>
            <a:avLst/>
            <a:gdLst>
              <a:gd name="textAreaLeft" fmla="*/ 14400 w 649080"/>
              <a:gd name="textAreaRight" fmla="*/ 634680 w 649080"/>
              <a:gd name="textAreaTop" fmla="*/ 14400 h 1368360"/>
              <a:gd name="textAreaBottom" fmla="*/ 1353960 h 1368360"/>
            </a:gdLst>
            <a:ahLst/>
            <a:rect l="textAreaLeft" t="textAreaTop" r="textAreaRight" b="textAreaBottom"/>
            <a:pathLst>
              <a:path w="21600" h="45523">
                <a:moveTo>
                  <a:pt x="1637" y="0"/>
                </a:moveTo>
                <a:arcTo wR="1637" hR="1637" stAng="16200000" swAng="-5400000"/>
                <a:lnTo>
                  <a:pt x="0" y="43886"/>
                </a:lnTo>
                <a:arcTo wR="1637" hR="1637" stAng="10800000" swAng="-5400000"/>
                <a:lnTo>
                  <a:pt x="19963" y="45523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ศักย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่วย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ติยภูมิเฉพาะทา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รคหัวใจ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อดเลือด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ะเร็งและเครือ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่ายควบคุม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ดเจ็บ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ี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553-255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8360" y="4745160"/>
            <a:ext cx="1222560" cy="71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ผลิตและพัฒนาศักยภาพแพทย์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บุคลากรสาธารณสุ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ใต้แผนปฏิบัติการไทยเข้มแข็ง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55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ฟื้นฟูเศรษฐกิจระยะที่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: SP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3" idx="2"/>
            <a:endCxn id="212" idx="0"/>
          </p:cNvCxnSpPr>
          <p:nvPr/>
        </p:nvCxnSpPr>
        <p:spPr>
          <a:xfrm flipH="1" rot="16200000">
            <a:off x="3887280" y="4456080"/>
            <a:ext cx="360720" cy="2376000"/>
          </a:xfrm>
          <a:prstGeom prst="curvedConnector3">
            <a:avLst>
              <a:gd name="adj1" fmla="val 24975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 flipH="1" rot="19047000">
            <a:off x="2337840" y="4521240"/>
            <a:ext cx="110880" cy="223920"/>
          </a:xfrm>
          <a:prstGeom prst="downArrow">
            <a:avLst>
              <a:gd name="adj1" fmla="val 50000"/>
              <a:gd name="adj2" fmla="val 504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0920" y="726444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1 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9-11-13T02:48:01Z</dcterms:modified>
  <cp:revision>805</cp:revision>
  <dc:subject/>
  <dc:title>Slide 1</dc:title>
</cp:coreProperties>
</file>