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0D3-5A93-419E-90E0-2C215B9D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03A-481A-4B31-AC9B-DB6B0739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E8C-2DCA-4F5D-844C-B79995DC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6A4-EC01-4F41-8EEC-DD93385D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F19-EB09-44FE-9C0C-5C7B7F4F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824-C024-48C6-8B36-1E45454C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228-C0BA-4CA4-87B9-ED856E7E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284-A720-41EF-B266-2D1ECB1B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4A7-7A24-430A-A0D5-6146A63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692-C222-4E3B-8B4B-D874A3F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551-E283-4AA2-956A-DA650D49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983-FACB-49C8-A8CD-5C8849E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F096-5C0A-4D60-80EC-1830CF663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8360" y="333360"/>
            <a:ext cx="3887640" cy="645336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6453360"/>
              <a:gd name="textAreaBottom" fmla="*/ 6263640 h 6453360"/>
            </a:gdLst>
            <a:ahLst/>
            <a:rect l="textAreaLeft" t="textAreaTop" r="textAreaRight" b="textAreaBottom"/>
            <a:pathLst>
              <a:path w="21600" h="35854">
                <a:moveTo>
                  <a:pt x="3600" y="0"/>
                </a:moveTo>
                <a:arcTo wR="3600" hR="3600" stAng="16200000" swAng="-5400000"/>
                <a:lnTo>
                  <a:pt x="0" y="32254"/>
                </a:lnTo>
                <a:arcTo wR="3600" hR="3600" stAng="10800000" swAng="-5400000"/>
                <a:lnTo>
                  <a:pt x="18000" y="35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333360"/>
            <a:ext cx="3529080" cy="645336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6453360"/>
              <a:gd name="textAreaBottom" fmla="*/ 6281280 h 6453360"/>
            </a:gdLst>
            <a:ahLst/>
            <a:rect l="textAreaLeft" t="textAreaTop" r="textAreaRight" b="textAreaBottom"/>
            <a:pathLst>
              <a:path w="21600" h="39496">
                <a:moveTo>
                  <a:pt x="3600" y="0"/>
                </a:moveTo>
                <a:arcTo wR="3600" hR="3600" stAng="16200000" swAng="-5400000"/>
                <a:lnTo>
                  <a:pt x="0" y="35896"/>
                </a:lnTo>
                <a:arcTo wR="3600" hR="3600" stAng="10800000" swAng="-5400000"/>
                <a:lnTo>
                  <a:pt x="18000" y="394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052640"/>
            <a:ext cx="3456000" cy="5182920"/>
            <a:chOff x="324000" y="1052640"/>
            <a:chExt cx="3456000" cy="5182920"/>
          </a:xfrm>
        </p:grpSpPr>
        <p:sp>
          <p:nvSpPr>
            <p:cNvPr id="45" name=""/>
            <p:cNvSpPr/>
            <p:nvPr/>
          </p:nvSpPr>
          <p:spPr>
            <a:xfrm>
              <a:off x="1295280" y="1052640"/>
              <a:ext cx="122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8360" y="2635200"/>
              <a:ext cx="28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5732640"/>
              <a:ext cx="1260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43280" y="4579920"/>
              <a:ext cx="14414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แผ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ของหน่วยงา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579920"/>
              <a:ext cx="143964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เงินทดลอ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63640" y="5732640"/>
              <a:ext cx="1692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ระบบ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4200" y="3500280"/>
              <a:ext cx="647640" cy="6480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38560" y="34815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6000" y="1843200"/>
              <a:ext cx="176400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71640" y="155592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871280" y="1987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9640" y="31399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4000" y="313992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964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400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9640" y="508464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9280" y="126828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7280" y="530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3419640" y="190440"/>
            <a:ext cx="22320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การเงิน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76720" y="1052640"/>
            <a:ext cx="2590560" cy="4824360"/>
            <a:chOff x="3276720" y="1052640"/>
            <a:chExt cx="2590560" cy="4824360"/>
          </a:xfrm>
        </p:grpSpPr>
        <p:sp>
          <p:nvSpPr>
            <p:cNvPr id="65" name=""/>
            <p:cNvSpPr/>
            <p:nvPr/>
          </p:nvSpPr>
          <p:spPr>
            <a:xfrm>
              <a:off x="3781440" y="1052640"/>
              <a:ext cx="115236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8360" y="2133720"/>
              <a:ext cx="129708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กรณีคืนเงิ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80000" y="5011560"/>
              <a:ext cx="1152360" cy="86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ข้า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6720" y="3427560"/>
              <a:ext cx="20890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อ้างจากที่หนังสือเดิ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7800" y="15559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7800" y="42195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57800" y="2708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49800" y="1052640"/>
            <a:ext cx="3886200" cy="5543280"/>
            <a:chOff x="5149800" y="1052640"/>
            <a:chExt cx="3886200" cy="5543280"/>
          </a:xfrm>
        </p:grpSpPr>
        <p:sp>
          <p:nvSpPr>
            <p:cNvPr id="75" name=""/>
            <p:cNvSpPr/>
            <p:nvPr/>
          </p:nvSpPr>
          <p:spPr>
            <a:xfrm>
              <a:off x="6084720" y="1052640"/>
              <a:ext cx="266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5640" y="3860640"/>
              <a:ext cx="2016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ว่าเป็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/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ไม่มี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13560" y="4005360"/>
              <a:ext cx="1522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แผนหน่วย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2060640"/>
              <a:ext cx="295128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2720" y="5011560"/>
              <a:ext cx="12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ลือก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5732640"/>
              <a:ext cx="792000" cy="86328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863280"/>
                <a:gd name="textAreaBottom" fmla="*/ 824760 h 863280"/>
              </a:gdLst>
              <a:ahLst/>
              <a:rect l="textAreaLeft" t="textAreaTop" r="textAreaRight" b="textAreaBottom"/>
              <a:pathLst>
                <a:path w="21600" h="23543">
                  <a:moveTo>
                    <a:pt x="3600" y="0"/>
                  </a:moveTo>
                  <a:arcTo wR="3600" hR="3600" stAng="16200000" swAng="-5400000"/>
                  <a:lnTo>
                    <a:pt x="0" y="19943"/>
                  </a:lnTo>
                  <a:arcTo wR="3600" hR="3600" stAng="10800000" swAng="-5400000"/>
                  <a:lnTo>
                    <a:pt x="18000" y="23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59640" y="5011560"/>
              <a:ext cx="863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49800" y="5732640"/>
              <a:ext cx="1438200" cy="836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7640" y="5157720"/>
              <a:ext cx="1008000" cy="1150920"/>
            </a:xfrm>
            <a:custGeom>
              <a:avLst/>
              <a:gdLst>
                <a:gd name="textAreaLeft" fmla="*/ 48960 w 1008000"/>
                <a:gd name="textAreaRight" fmla="*/ 959040 w 1008000"/>
                <a:gd name="textAreaTop" fmla="*/ 48960 h 1150920"/>
                <a:gd name="textAreaBottom" fmla="*/ 1101960 h 1150920"/>
              </a:gdLst>
              <a:ahLst/>
              <a:rect l="textAreaLeft" t="textAreaTop" r="textAreaRight" b="textAreaBottom"/>
              <a:pathLst>
                <a:path w="21600" h="24661">
                  <a:moveTo>
                    <a:pt x="3600" y="0"/>
                  </a:moveTo>
                  <a:arcTo wR="3600" hR="3600" stAng="16200000" swAng="-5400000"/>
                  <a:lnTo>
                    <a:pt x="0" y="21061"/>
                  </a:lnTo>
                  <a:arcTo wR="3600" hR="3600" stAng="10800000" swAng="-5400000"/>
                  <a:lnTo>
                    <a:pt x="18000" y="24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8720" y="1555920"/>
              <a:ext cx="0" cy="5047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4720" y="2779560"/>
              <a:ext cx="648000" cy="64800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9240" y="290520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94680" y="2563920"/>
              <a:ext cx="0" cy="3445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342756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94680" y="357192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2360" y="2563920"/>
              <a:ext cx="0" cy="215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2000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72360" y="487044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7480" y="448920"/>
            <a:ext cx="3191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วาง </a:t>
            </a:r>
            <a:r>
              <a:rPr b="1" lang="en-US" sz="6800" spc="-1" strike="noStrike">
                <a:solidFill>
                  <a:srgbClr val="000000"/>
                </a:solidFill>
                <a:latin typeface="Angsana New"/>
                <a:ea typeface="EucrosiaUPC"/>
              </a:rPr>
              <a:t>PO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1932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edee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ือกแผนงาน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4098960"/>
            <a:ext cx="3457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ึกษาแผนงานของแต่ละหน่วยงา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532400"/>
            <a:ext cx="3529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รับ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ากโปรแกรม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5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5180040"/>
            <a:ext cx="23749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วาง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ใน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5080" y="2082960"/>
            <a:ext cx="2879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3e5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ตรวจสอบเงินก่อนก่อหนี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811680"/>
            <a:ext cx="1727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บันทึกข้อมู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946240"/>
            <a:ext cx="574560" cy="720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2908440"/>
            <a:ext cx="574560" cy="79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ไม่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827680"/>
            <a:ext cx="381636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กลับไปปรับปรุงข้อมูล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ดิ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พื่อบันทึกหมาย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จาก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5035680"/>
            <a:ext cx="2521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ับระบบ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17953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3066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2658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1" idx="1"/>
            <a:endCxn id="100" idx="1"/>
          </p:cNvCxnSpPr>
          <p:nvPr/>
        </p:nvCxnSpPr>
        <p:spPr>
          <a:xfrm flipV="1" rot="10800000">
            <a:off x="610560" y="3306240"/>
            <a:ext cx="144720" cy="758160"/>
          </a:xfrm>
          <a:prstGeom prst="curvedConnector5">
            <a:avLst>
              <a:gd name="adj1" fmla="val 454862"/>
              <a:gd name="adj2" fmla="val 49976"/>
              <a:gd name="adj3" fmla="val 4548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6" idx="3"/>
            <a:endCxn id="104" idx="3"/>
          </p:cNvCxnSpPr>
          <p:nvPr/>
        </p:nvCxnSpPr>
        <p:spPr>
          <a:xfrm flipH="1">
            <a:off x="7956360" y="4351320"/>
            <a:ext cx="505440" cy="937440"/>
          </a:xfrm>
          <a:prstGeom prst="curvedConnector5">
            <a:avLst>
              <a:gd name="adj1" fmla="val -45260"/>
              <a:gd name="adj2" fmla="val 49980"/>
              <a:gd name="adj3" fmla="val -45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2" idx="3"/>
            <a:endCxn id="96" idx="3"/>
          </p:cNvCxnSpPr>
          <p:nvPr/>
        </p:nvCxnSpPr>
        <p:spPr>
          <a:xfrm>
            <a:off x="8459280" y="3305160"/>
            <a:ext cx="2520" cy="1046880"/>
          </a:xfrm>
          <a:prstGeom prst="curvedConnector5">
            <a:avLst>
              <a:gd name="adj1" fmla="val 14500000"/>
              <a:gd name="adj2" fmla="val 49982"/>
              <a:gd name="adj3" fmla="val 14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1"/>
            <a:endCxn id="98" idx="1"/>
          </p:cNvCxnSpPr>
          <p:nvPr/>
        </p:nvCxnSpPr>
        <p:spPr>
          <a:xfrm flipH="1" flipV="1" rot="10800000">
            <a:off x="826560" y="4783680"/>
            <a:ext cx="650160" cy="648360"/>
          </a:xfrm>
          <a:prstGeom prst="curvedConnector5">
            <a:avLst>
              <a:gd name="adj1" fmla="val -35180"/>
              <a:gd name="adj2" fmla="val 50000"/>
              <a:gd name="adj3" fmla="val -351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8" idx="1"/>
            <a:endCxn id="103" idx="1"/>
          </p:cNvCxnSpPr>
          <p:nvPr/>
        </p:nvCxnSpPr>
        <p:spPr>
          <a:xfrm flipH="1" flipV="1" rot="10800000">
            <a:off x="1475280" y="5431320"/>
            <a:ext cx="432360" cy="778680"/>
          </a:xfrm>
          <a:prstGeom prst="curvedConnector5">
            <a:avLst>
              <a:gd name="adj1" fmla="val -52916"/>
              <a:gd name="adj2" fmla="val 50000"/>
              <a:gd name="adj3" fmla="val -52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0" idx="1"/>
            <a:endCxn id="97" idx="1"/>
          </p:cNvCxnSpPr>
          <p:nvPr/>
        </p:nvCxnSpPr>
        <p:spPr>
          <a:xfrm flipH="1" flipV="1" rot="10800000">
            <a:off x="610200" y="4063680"/>
            <a:ext cx="216360" cy="721440"/>
          </a:xfrm>
          <a:prstGeom prst="curvedConnector5">
            <a:avLst>
              <a:gd name="adj1" fmla="val -105833"/>
              <a:gd name="adj2" fmla="val 49975"/>
              <a:gd name="adj3" fmla="val -105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2:32:38Z</dcterms:created>
  <dc:creator>Microsoft</dc:creator>
  <dc:description/>
  <dc:language>en-US</dc:language>
  <cp:lastModifiedBy>Microsoft</cp:lastModifiedBy>
  <dcterms:modified xsi:type="dcterms:W3CDTF">2009-11-13T02:41:25Z</dcterms:modified>
  <cp:revision>4</cp:revision>
  <dc:subject/>
  <dc:title>ภาพนิ่ง 1</dc:title>
</cp:coreProperties>
</file>