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2063" cy="7616825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08D1-91C1-4FB7-B8E2-B143B4284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960" y="1777680"/>
            <a:ext cx="9134640" cy="2397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960" y="4403160"/>
            <a:ext cx="9134640" cy="2397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C94A-FB4F-4F4C-B2B3-CE7892F2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777680"/>
            <a:ext cx="4457520" cy="2397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8680" y="1777680"/>
            <a:ext cx="4457520" cy="2397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7960" y="4403160"/>
            <a:ext cx="4457520" cy="2397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8680" y="4403160"/>
            <a:ext cx="4457520" cy="2397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4647-229D-45FE-B11D-279323D09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7960" y="1777680"/>
            <a:ext cx="2941200" cy="2397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6760" y="1777680"/>
            <a:ext cx="2941200" cy="2397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5200" y="1777680"/>
            <a:ext cx="2941200" cy="2397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7960" y="4403160"/>
            <a:ext cx="2941200" cy="2397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6760" y="4403160"/>
            <a:ext cx="2941200" cy="2397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85200" y="4403160"/>
            <a:ext cx="2941200" cy="2397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D60B-1851-41C4-AD2B-D8F58526D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7960" y="1777680"/>
            <a:ext cx="913464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9667-632F-4A37-AAB8-0E13326D6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77680"/>
            <a:ext cx="9134640" cy="50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F840-CBFB-4211-870C-800DD12D2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1777680"/>
            <a:ext cx="4457520" cy="50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8680" y="1777680"/>
            <a:ext cx="4457520" cy="50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B05F-E686-446A-B654-E43DA878A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2B96-76E7-407A-8805-C4C78BD97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3464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8476-A64D-4FD3-9A3F-E046C0C3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7960" y="1777680"/>
            <a:ext cx="4457520" cy="2397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8680" y="1777680"/>
            <a:ext cx="4457520" cy="50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7960" y="4403160"/>
            <a:ext cx="4457520" cy="2397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5E4C-B794-4FD3-9073-50CB27D0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1777680"/>
            <a:ext cx="4457520" cy="50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8680" y="1777680"/>
            <a:ext cx="4457520" cy="2397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8680" y="4403160"/>
            <a:ext cx="4457520" cy="2397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CF57-64D7-41F5-BD3D-02416EA4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7960" y="1777680"/>
            <a:ext cx="4457520" cy="2397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8680" y="1777680"/>
            <a:ext cx="4457520" cy="2397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960" y="4403160"/>
            <a:ext cx="9134640" cy="2397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72D3-D658-4918-AE44-A23A5D1D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7960" y="1777680"/>
            <a:ext cx="9134640" cy="50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31752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68280" indent="-252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76240" indent="-2538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28456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28456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28456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7600" y="6935400"/>
            <a:ext cx="2368440" cy="528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th-TH" sz="1600" spc="-1" strike="noStrike">
                <a:solidFill>
                  <a:srgbClr val="000000"/>
                </a:solidFill>
                <a:latin typeface="Arial"/>
                <a:ea typeface="Angsana New"/>
              </a:defRPr>
            </a:lvl1pPr>
          </a:lstStyle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  <a:ea typeface="Angsana New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68600" y="6935400"/>
            <a:ext cx="3213360" cy="528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600" spc="-1" strike="noStrike">
                <a:solidFill>
                  <a:srgbClr val="000000"/>
                </a:solidFill>
                <a:latin typeface="Arial"/>
                <a:ea typeface="Angsana New"/>
              </a:defRPr>
            </a:lvl1pPr>
          </a:lstStyle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3800" y="6935400"/>
            <a:ext cx="2368800" cy="528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 algn="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600" spc="-1" strike="noStrike">
                <a:solidFill>
                  <a:srgbClr val="000000"/>
                </a:solidFill>
                <a:latin typeface="Arial"/>
                <a:ea typeface="Angsana New"/>
              </a:defRPr>
            </a:lvl1pPr>
          </a:lstStyle>
          <a:p>
            <a:pPr indent="0" algn="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52ED2177-6D85-4E69-ADAC-9C2E6F83D271}" type="slidenum"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4520" y="906480"/>
            <a:ext cx="9915480" cy="6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800" rIns="55800" tIns="27720" bIns="277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Angsana New"/>
              </a:rPr>
              <a:t>แผนภูมิแสดงความเชื่อมโยงยุทธศาสตร์การจัดสรรงบประมาณ แผนงาน เป้าหมายการให้บริการกระทรวง เป้าหมายการให้บริการหน่วยงาน ผลผลิต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 New"/>
              </a:rPr>
              <a:t>/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Angsana New"/>
              </a:rPr>
              <a:t>โครงการ และงบประมา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2200" y="1654200"/>
            <a:ext cx="1505160" cy="66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800" rIns="55800" tIns="27720" bIns="27720" anchor="t">
            <a:spAutoFit/>
          </a:bodyPr>
          <a:p>
            <a:pPr algn="ctr">
              <a:lnSpc>
                <a:spcPct val="8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Angsana New"/>
                <a:cs typeface="Angsana New"/>
              </a:rPr>
              <a:t>ยุทธศาสตร์กา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Angsana New"/>
                <a:cs typeface="Angsana New"/>
              </a:rPr>
              <a:t>จัดสรรงบประมา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2200" y="2274840"/>
            <a:ext cx="129564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0" rIns="32400" tIns="16200" bIns="16200" anchor="t">
            <a:spAutoFit/>
          </a:bodyPr>
          <a:p>
            <a:pPr algn="ctr">
              <a:lnSpc>
                <a:spcPct val="76000"/>
              </a:lnSpc>
              <a:tabLst>
                <a:tab algn="l" pos="0"/>
                <a:tab algn="l" pos="325440"/>
                <a:tab algn="l" pos="650880"/>
                <a:tab algn="l" pos="976320"/>
                <a:tab algn="l" pos="1301760"/>
                <a:tab algn="l" pos="1627200"/>
                <a:tab algn="l" pos="1952640"/>
                <a:tab algn="l" pos="2278080"/>
                <a:tab algn="l" pos="2603520"/>
                <a:tab algn="l" pos="2928960"/>
                <a:tab algn="l" pos="3254400"/>
                <a:tab algn="l" pos="3579840"/>
                <a:tab algn="l" pos="3905280"/>
                <a:tab algn="l" pos="4230720"/>
                <a:tab algn="l" pos="4556160"/>
                <a:tab algn="l" pos="4881600"/>
                <a:tab algn="l" pos="5207040"/>
                <a:tab algn="l" pos="5532480"/>
                <a:tab algn="l" pos="5857920"/>
                <a:tab algn="l" pos="6183360"/>
                <a:tab algn="l" pos="65088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Angsana New"/>
                <a:cs typeface="Angsana New"/>
              </a:rPr>
              <a:t>แผนงา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32040" y="2260440"/>
            <a:ext cx="4559400" cy="381240"/>
          </a:xfrm>
          <a:prstGeom prst="roundRect">
            <a:avLst>
              <a:gd name="adj" fmla="val 1072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5440"/>
                <a:tab algn="l" pos="650880"/>
                <a:tab algn="l" pos="976320"/>
                <a:tab algn="l" pos="1301760"/>
                <a:tab algn="l" pos="1627200"/>
                <a:tab algn="l" pos="1952640"/>
                <a:tab algn="l" pos="2278080"/>
                <a:tab algn="l" pos="2603520"/>
                <a:tab algn="l" pos="2928960"/>
                <a:tab algn="l" pos="3254400"/>
                <a:tab algn="l" pos="3579840"/>
                <a:tab algn="l" pos="3905280"/>
                <a:tab algn="l" pos="4230720"/>
                <a:tab algn="l" pos="4556160"/>
                <a:tab algn="l" pos="4881600"/>
                <a:tab algn="l" pos="5207040"/>
                <a:tab algn="l" pos="5532480"/>
                <a:tab algn="l" pos="5857920"/>
                <a:tab algn="l" pos="6183360"/>
                <a:tab algn="l" pos="65088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Angsana New"/>
                <a:ea typeface="Angsana New"/>
              </a:rPr>
              <a:t>3.3  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cs typeface="Angsana New"/>
              </a:rPr>
              <a:t>แผนงานพัฒนาด้านสาธารณสุ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588000" y="2260440"/>
            <a:ext cx="3021120" cy="381240"/>
          </a:xfrm>
          <a:prstGeom prst="roundRect">
            <a:avLst>
              <a:gd name="adj" fmla="val 1072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5440"/>
                <a:tab algn="l" pos="650880"/>
                <a:tab algn="l" pos="976320"/>
                <a:tab algn="l" pos="1301760"/>
                <a:tab algn="l" pos="1627200"/>
                <a:tab algn="l" pos="1952640"/>
                <a:tab algn="l" pos="2278080"/>
                <a:tab algn="l" pos="2603520"/>
                <a:tab algn="l" pos="2928960"/>
                <a:tab algn="l" pos="3254400"/>
                <a:tab algn="l" pos="3579840"/>
                <a:tab algn="l" pos="3905280"/>
                <a:tab algn="l" pos="4230720"/>
                <a:tab algn="l" pos="4556160"/>
                <a:tab algn="l" pos="4881600"/>
                <a:tab algn="l" pos="5207040"/>
                <a:tab algn="l" pos="5532480"/>
                <a:tab algn="l" pos="5857920"/>
                <a:tab algn="l" pos="6183360"/>
                <a:tab algn="l" pos="65088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Angsana New"/>
                <a:ea typeface="Angsana New"/>
              </a:rPr>
              <a:t>3.10 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cs typeface="Angsana New"/>
              </a:rPr>
              <a:t>ป้องกันปัญหายาเสพติ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2200" y="2851200"/>
            <a:ext cx="906480" cy="7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800" rIns="55800" tIns="27720" bIns="27720" anchor="t">
            <a:spAutoFit/>
          </a:bodyPr>
          <a:p>
            <a:pPr algn="ctr">
              <a:lnSpc>
                <a:spcPct val="72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Angsana New"/>
                <a:cs typeface="Angsana New"/>
              </a:rPr>
              <a:t>เป้าหมายการให้บริการกระทรว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42920" y="5410080"/>
            <a:ext cx="1727280" cy="1731960"/>
          </a:xfrm>
          <a:custGeom>
            <a:avLst/>
            <a:gdLst>
              <a:gd name="textAreaLeft" fmla="*/ 38160 w 1727280"/>
              <a:gd name="textAreaRight" fmla="*/ 1689120 w 1727280"/>
              <a:gd name="textAreaTop" fmla="*/ 38160 h 1731960"/>
              <a:gd name="textAreaBottom" fmla="*/ 1693800 h 1731960"/>
            </a:gdLst>
            <a:ahLst/>
            <a:rect l="textAreaLeft" t="textAreaTop" r="textAreaRight" b="textAreaBottom"/>
            <a:pathLst>
              <a:path w="21600" h="21659">
                <a:moveTo>
                  <a:pt x="1637" y="0"/>
                </a:moveTo>
                <a:arcTo wR="1637" hR="1637" stAng="16200000" swAng="-5400000"/>
                <a:lnTo>
                  <a:pt x="0" y="20022"/>
                </a:lnTo>
                <a:arcTo wR="1637" hR="1637" stAng="10800000" swAng="-5400000"/>
                <a:lnTo>
                  <a:pt x="19963" y="21659"/>
                </a:lnTo>
                <a:arcTo wR="1637" hR="1637" stAng="5400000" swAng="-5400000"/>
                <a:lnTo>
                  <a:pt x="21600" y="1637"/>
                </a:lnTo>
                <a:arcTo wR="1637" hR="1637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760" rIns="32760" tIns="6480" bIns="6480" anchor="ctr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ถานบริการสุขภาพภาครัฐ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เอกชน และสถานประกอบกา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ธุรกิจบริการสุขภาพได้รับกา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่งเสริม พัฒนา  สนับสนุ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ประสาน ควบคุม กำกั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คุณภาพมาตรฐานบริการสุขภา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Angsana New"/>
              </a:rPr>
              <a:t>(366.6044  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ล้านบาท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Angsana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44720" y="5415120"/>
            <a:ext cx="1366920" cy="1439640"/>
          </a:xfrm>
          <a:custGeom>
            <a:avLst/>
            <a:gdLst>
              <a:gd name="textAreaLeft" fmla="*/ 30240 w 1366920"/>
              <a:gd name="textAreaRight" fmla="*/ 1336680 w 1366920"/>
              <a:gd name="textAreaTop" fmla="*/ 30240 h 1439640"/>
              <a:gd name="textAreaBottom" fmla="*/ 1409400 h 1439640"/>
            </a:gdLst>
            <a:ahLst/>
            <a:rect l="textAreaLeft" t="textAreaTop" r="textAreaRight" b="textAreaBottom"/>
            <a:pathLst>
              <a:path w="21600" h="22749">
                <a:moveTo>
                  <a:pt x="1637" y="0"/>
                </a:moveTo>
                <a:arcTo wR="1637" hR="1637" stAng="16200000" swAng="-5400000"/>
                <a:lnTo>
                  <a:pt x="0" y="21112"/>
                </a:lnTo>
                <a:arcTo wR="1637" hR="1637" stAng="10800000" swAng="-5400000"/>
                <a:lnTo>
                  <a:pt x="19963" y="22749"/>
                </a:lnTo>
                <a:arcTo wR="1637" hR="1637" stAng="5400000" swAng="-5400000"/>
                <a:lnTo>
                  <a:pt x="21600" y="1637"/>
                </a:lnTo>
                <a:arcTo wR="1637" hR="1637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760" rIns="32760" tIns="6480" bIns="6480" anchor="t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ผลงานการวิจัย พัฒน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องค์ความรู้และเทคโนโลย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ด้านระบบบริการสุขภาพ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ุขศึกษาและสุขภา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ภาคประชาช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Angsana New"/>
              </a:rPr>
              <a:t>(113.5793 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ล้านบาท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Angsana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6880" y="5415120"/>
            <a:ext cx="644760" cy="56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800" rIns="55800" tIns="27720" bIns="27720" anchor="t">
            <a:spAutoFit/>
          </a:bodyPr>
          <a:p>
            <a:pPr algn="ctr">
              <a:lnSpc>
                <a:spcPct val="8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Angsana New"/>
              </a:rPr>
              <a:t>ผ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Angsana New"/>
              </a:rPr>
              <a:t>ผลิ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62560" y="5398920"/>
            <a:ext cx="1409760" cy="1455840"/>
          </a:xfrm>
          <a:custGeom>
            <a:avLst/>
            <a:gdLst>
              <a:gd name="textAreaLeft" fmla="*/ 30960 w 1409760"/>
              <a:gd name="textAreaRight" fmla="*/ 1378800 w 1409760"/>
              <a:gd name="textAreaTop" fmla="*/ 30960 h 1455840"/>
              <a:gd name="textAreaBottom" fmla="*/ 1424880 h 1455840"/>
            </a:gdLst>
            <a:ahLst/>
            <a:rect l="textAreaLeft" t="textAreaTop" r="textAreaRight" b="textAreaBottom"/>
            <a:pathLst>
              <a:path w="21600" h="22306">
                <a:moveTo>
                  <a:pt x="1637" y="0"/>
                </a:moveTo>
                <a:arcTo wR="1637" hR="1637" stAng="16200000" swAng="-5400000"/>
                <a:lnTo>
                  <a:pt x="0" y="20669"/>
                </a:lnTo>
                <a:arcTo wR="1637" hR="1637" stAng="10800000" swAng="-5400000"/>
                <a:lnTo>
                  <a:pt x="19963" y="22306"/>
                </a:lnTo>
                <a:arcTo wR="1637" hR="1637" stAng="5400000" swAng="-5400000"/>
                <a:lnTo>
                  <a:pt x="21600" y="1637"/>
                </a:lnTo>
                <a:arcTo wR="1637" hR="1637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760" rIns="32760" tIns="6480" bIns="6480" anchor="t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ประชาชนกลุ่มเป้าหมา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ได้รับการถ่ายทอดความรู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ด้านสุขภาพเพื่อนำไปสู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การปรับเปลี่ยนพฤติกรร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ุขภา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Angsana New"/>
              </a:rPr>
              <a:t>(46.8606 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ล้านบาท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Angsana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523360" y="5392800"/>
            <a:ext cx="1447560" cy="1822320"/>
          </a:xfrm>
          <a:custGeom>
            <a:avLst/>
            <a:gdLst>
              <a:gd name="textAreaLeft" fmla="*/ 32040 w 1447560"/>
              <a:gd name="textAreaRight" fmla="*/ 1415520 w 1447560"/>
              <a:gd name="textAreaTop" fmla="*/ 32040 h 1822320"/>
              <a:gd name="textAreaBottom" fmla="*/ 1790280 h 1822320"/>
            </a:gdLst>
            <a:ahLst/>
            <a:rect l="textAreaLeft" t="textAreaTop" r="textAreaRight" b="textAreaBottom"/>
            <a:pathLst>
              <a:path w="21600" h="27191">
                <a:moveTo>
                  <a:pt x="1637" y="0"/>
                </a:moveTo>
                <a:arcTo wR="1637" hR="1637" stAng="16200000" swAng="-5400000"/>
                <a:lnTo>
                  <a:pt x="0" y="25554"/>
                </a:lnTo>
                <a:arcTo wR="1637" hR="1637" stAng="10800000" swAng="-5400000"/>
                <a:lnTo>
                  <a:pt x="19963" y="27191"/>
                </a:lnTo>
                <a:arcTo wR="1637" hR="1637" stAng="5400000" swAng="-5400000"/>
                <a:lnTo>
                  <a:pt x="21600" y="1637"/>
                </a:lnTo>
                <a:arcTo wR="1637" hR="1637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760" rIns="32760" tIns="6480" bIns="6480" anchor="t">
            <a:noAutofit/>
          </a:bodyPr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ระบบรายงาน ระบบติดตา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และเฝ้าระวังปัญห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ยาเสพติดได้รับกา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ปรับปรุงและพัฒน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เพื่อให้ได้ข้อมูลที่มีคุณภา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มาตรฐา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Angsana New"/>
              </a:rPr>
              <a:t>(7.1161 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ล้านบาท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Angsana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82920" y="5415120"/>
            <a:ext cx="1006560" cy="998280"/>
          </a:xfrm>
          <a:prstGeom prst="roundRect">
            <a:avLst>
              <a:gd name="adj" fmla="val 757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760" rIns="32760" tIns="6480" bIns="6480" anchor="t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ผลงานการส่งเสริ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คุ้มครองด้า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บริการสุขภา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Angsana New"/>
              </a:rPr>
              <a:t>(4.8013 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ล้านบาท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Angsana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75640" y="5415120"/>
            <a:ext cx="1487160" cy="1792080"/>
          </a:xfrm>
          <a:custGeom>
            <a:avLst/>
            <a:gdLst>
              <a:gd name="textAreaLeft" fmla="*/ 32760 w 1487160"/>
              <a:gd name="textAreaRight" fmla="*/ 1454400 w 1487160"/>
              <a:gd name="textAreaTop" fmla="*/ 32760 h 1792080"/>
              <a:gd name="textAreaBottom" fmla="*/ 1759320 h 1792080"/>
            </a:gdLst>
            <a:ahLst/>
            <a:rect l="textAreaLeft" t="textAreaTop" r="textAreaRight" b="textAreaBottom"/>
            <a:pathLst>
              <a:path w="21600" h="26028">
                <a:moveTo>
                  <a:pt x="1637" y="0"/>
                </a:moveTo>
                <a:arcTo wR="1637" hR="1637" stAng="16200000" swAng="-5400000"/>
                <a:lnTo>
                  <a:pt x="0" y="24391"/>
                </a:lnTo>
                <a:arcTo wR="1637" hR="1637" stAng="10800000" swAng="-5400000"/>
                <a:lnTo>
                  <a:pt x="19963" y="26028"/>
                </a:lnTo>
                <a:arcTo wR="1637" hR="1637" stAng="5400000" swAng="-5400000"/>
                <a:lnTo>
                  <a:pt x="21600" y="1637"/>
                </a:lnTo>
                <a:arcTo wR="1637" hR="1637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760" rIns="32760" tIns="6480" bIns="6480" anchor="t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อาสาสมัครสาธารณสุ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ประจำหมู่บ้าน องค์ก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ปกครองส่วนท้องถิ่น ภาค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เครือข่ายได้รับการส่งเสริ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และสนับสนุนให้มีกิจกรร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ด้านสุขภา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Angsana New"/>
              </a:rPr>
              <a:t>(164.5751 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ล้านบาท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Angsana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488360" y="2058840"/>
            <a:ext cx="179280" cy="201600"/>
          </a:xfrm>
          <a:prstGeom prst="downArrow">
            <a:avLst>
              <a:gd name="adj1" fmla="val 50000"/>
              <a:gd name="adj2" fmla="val 281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03640" y="2058840"/>
            <a:ext cx="179280" cy="201600"/>
          </a:xfrm>
          <a:prstGeom prst="downArrow">
            <a:avLst>
              <a:gd name="adj1" fmla="val 50000"/>
              <a:gd name="adj2" fmla="val 281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19640" y="1700280"/>
            <a:ext cx="4608360" cy="380880"/>
          </a:xfrm>
          <a:prstGeom prst="roundRect">
            <a:avLst>
              <a:gd name="adj" fmla="val 1072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marL="533520" indent="-53352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ea typeface="Angsana New"/>
              </a:rPr>
              <a:t>3. </a:t>
            </a: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Angsana New"/>
              </a:rPr>
              <a:t>ยุทธศาสตร์การพัฒนาสังคมและคุณภาพชีวิ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6920" y="3736800"/>
            <a:ext cx="222120" cy="2206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2560" y="3736800"/>
            <a:ext cx="222120" cy="2206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256360" y="2635200"/>
            <a:ext cx="179280" cy="201600"/>
          </a:xfrm>
          <a:prstGeom prst="downArrow">
            <a:avLst>
              <a:gd name="adj1" fmla="val 50000"/>
              <a:gd name="adj2" fmla="val 281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06560" y="2635200"/>
            <a:ext cx="179640" cy="201600"/>
          </a:xfrm>
          <a:prstGeom prst="downArrow">
            <a:avLst>
              <a:gd name="adj1" fmla="val 50000"/>
              <a:gd name="adj2" fmla="val 2805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064360" y="2635200"/>
            <a:ext cx="179640" cy="201600"/>
          </a:xfrm>
          <a:prstGeom prst="downArrow">
            <a:avLst>
              <a:gd name="adj1" fmla="val 50000"/>
              <a:gd name="adj2" fmla="val 2805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 rot="19047000">
            <a:off x="3627000" y="3646080"/>
            <a:ext cx="223920" cy="378000"/>
          </a:xfrm>
          <a:prstGeom prst="downArrow">
            <a:avLst>
              <a:gd name="adj1" fmla="val 50000"/>
              <a:gd name="adj2" fmla="val 422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740800" y="3736800"/>
            <a:ext cx="222120" cy="2206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51640" y="5103720"/>
            <a:ext cx="287280" cy="289080"/>
          </a:xfrm>
          <a:prstGeom prst="downArrow">
            <a:avLst>
              <a:gd name="adj1" fmla="val 50000"/>
              <a:gd name="adj2" fmla="val 2515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87520" y="2851200"/>
            <a:ext cx="2508120" cy="944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t">
            <a:noAutofit/>
          </a:bodyPr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Angsana New"/>
              </a:rPr>
              <a:t>3. 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ประชาชนสามารถเข้าถึงหลักประกันสุขภาพ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ได้รับบริการสุขภาพ และบริโภคผลิตภัณฑ์สุขภา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ที่มีคุณภาพมาตรฐานอย่างทั่วถึงและเป็นธรร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Angsana New"/>
              </a:rPr>
              <a:t>(484.9850 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ล้านบาท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Angsana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59640" y="2851200"/>
            <a:ext cx="2954160" cy="944640"/>
          </a:xfrm>
          <a:prstGeom prst="roundRect">
            <a:avLst>
              <a:gd name="adj" fmla="val 147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Angsana New"/>
              </a:rPr>
              <a:t>2. 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ประชาชน ผู้เสพและผู้ติดยาเสพติดได้รับการบำบัดรักษ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ฟื้นฟู เฝ้าระวัง ควบคุมการใช้วัตถุเสพติดให้สามาร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ดำเนินชีวิตได้ตามปกติในสังค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Angsana New"/>
              </a:rPr>
              <a:t>(7.1161 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ล้านบาท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Angsana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19280" y="5103720"/>
            <a:ext cx="287280" cy="289080"/>
          </a:xfrm>
          <a:prstGeom prst="downArrow">
            <a:avLst>
              <a:gd name="adj1" fmla="val 50000"/>
              <a:gd name="adj2" fmla="val 2515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14560" y="5103720"/>
            <a:ext cx="287280" cy="289080"/>
          </a:xfrm>
          <a:prstGeom prst="downArrow">
            <a:avLst>
              <a:gd name="adj1" fmla="val 50000"/>
              <a:gd name="adj2" fmla="val 2515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354560" y="5103720"/>
            <a:ext cx="287280" cy="289080"/>
          </a:xfrm>
          <a:prstGeom prst="downArrow">
            <a:avLst>
              <a:gd name="adj1" fmla="val 50000"/>
              <a:gd name="adj2" fmla="val 2515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22920" y="5103720"/>
            <a:ext cx="287280" cy="289080"/>
          </a:xfrm>
          <a:prstGeom prst="downArrow">
            <a:avLst>
              <a:gd name="adj1" fmla="val 50000"/>
              <a:gd name="adj2" fmla="val 2515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891640" y="5103720"/>
            <a:ext cx="287280" cy="289080"/>
          </a:xfrm>
          <a:prstGeom prst="downArrow">
            <a:avLst>
              <a:gd name="adj1" fmla="val 50000"/>
              <a:gd name="adj2" fmla="val 2515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2200" y="4005360"/>
            <a:ext cx="865080" cy="12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800" rIns="55800" tIns="27720" bIns="27720" anchor="t">
            <a:spAutoFit/>
          </a:bodyPr>
          <a:p>
            <a:pPr algn="ctr">
              <a:lnSpc>
                <a:spcPct val="82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Angsana New"/>
                <a:cs typeface="Angsana New"/>
              </a:rPr>
              <a:t>เป้าหมายการให้บริการหน่วยงา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343160" y="3981600"/>
            <a:ext cx="2003400" cy="1223640"/>
          </a:xfrm>
          <a:prstGeom prst="roundRect">
            <a:avLst>
              <a:gd name="adj" fmla="val 757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760" rIns="32760" tIns="6480" bIns="6480" anchor="ctr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Angsana New"/>
              </a:rPr>
              <a:t>1. 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ถานบริการสุขภาพ  ภาครัฐ  เอกชน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และสถานประกอบการธุรกิจบริกา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ุขภาพมีคุณภาพมาตรฐา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Angsana New"/>
              </a:rPr>
              <a:t>(480.1837 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ล้านบาท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Angsana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170920" y="3981600"/>
            <a:ext cx="1639800" cy="1223640"/>
          </a:xfrm>
          <a:prstGeom prst="roundRect">
            <a:avLst>
              <a:gd name="adj" fmla="val 757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760" rIns="32760" tIns="6480" bIns="6480" anchor="ctr">
            <a:noAutofit/>
          </a:bodyPr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ระบบรายงาน ระบบติดตามแล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เฝ้าระวังปัญหายาเสพติ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ได้รับการปรับปรุงมีคุณภา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Angsana New"/>
              </a:rPr>
              <a:t>(7.1161 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ล้านบาท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Angsana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788000" y="3981600"/>
            <a:ext cx="1582560" cy="1223640"/>
          </a:xfrm>
          <a:prstGeom prst="roundRect">
            <a:avLst>
              <a:gd name="adj" fmla="val 757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760" rIns="32760" tIns="6480" bIns="6480" anchor="ctr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Angsana New"/>
              </a:rPr>
              <a:t>1. 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ประชาชนมีความรู้ที่จำเป็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และพฤติกรรมที่ถูกต้อ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ในการดูแลสุขภา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Angsana New"/>
              </a:rPr>
              <a:t>(46.8606 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ล้านบาท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Angsana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43640" y="3952800"/>
            <a:ext cx="1584360" cy="1224000"/>
          </a:xfrm>
          <a:prstGeom prst="roundRect">
            <a:avLst>
              <a:gd name="adj" fmla="val 757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760" rIns="32760" tIns="6480" bIns="6480" anchor="ctr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Angsana New"/>
              </a:rPr>
              <a:t>2. 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อาสาสมัครสาธารณสุ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ประจำหมู่บ้าน ภาคีเครือข่า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มีส่วนร่วมในการจัดกา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ุขภาพชุมช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Angsana New"/>
              </a:rPr>
              <a:t>(164.5751 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ล้านบาท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Angsana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90920" y="3981600"/>
            <a:ext cx="1241280" cy="1223640"/>
          </a:xfrm>
          <a:prstGeom prst="roundRect">
            <a:avLst>
              <a:gd name="adj" fmla="val 757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760" rIns="32760" tIns="6480" bIns="6480" anchor="ctr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Angsana New"/>
              </a:rPr>
              <a:t>2. 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ผู้บริโภคมีความรู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ความเข้าใจในกา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ใช้บริการสุขภา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Angsana New"/>
              </a:rPr>
              <a:t>(4.8013 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ล้านบาท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Angsana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rot="19047000">
            <a:off x="6298200" y="3673080"/>
            <a:ext cx="216000" cy="351000"/>
          </a:xfrm>
          <a:prstGeom prst="downArrow">
            <a:avLst>
              <a:gd name="adj1" fmla="val 50000"/>
              <a:gd name="adj2" fmla="val 4062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82920" y="2851200"/>
            <a:ext cx="2232360" cy="944640"/>
          </a:xfrm>
          <a:prstGeom prst="roundRect">
            <a:avLst>
              <a:gd name="adj" fmla="val 147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Angsana New"/>
              </a:rPr>
              <a:t>5. 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ประชาชนมีพฤติกรรมสุขภาพที่ถูกต้อง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ามารถลดภาระโรคภัยคุกคา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และความรุนแรงด้านสุขภาพได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Angsana New"/>
              </a:rPr>
              <a:t>(211.4357 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ล้านบาท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Angsana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7192800"/>
            <a:ext cx="86508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2760" rIns="32760" tIns="6480" bIns="6480" anchor="t">
            <a:spAutoFit/>
          </a:bodyPr>
          <a:p>
            <a:pPr marL="325440" indent="-325440" algn="ctr">
              <a:lnSpc>
                <a:spcPct val="104000"/>
              </a:lnSpc>
              <a:spcBef>
                <a:spcPts val="938"/>
              </a:spcBef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th-TH" sz="1500" spc="-1" strike="noStrike">
                <a:solidFill>
                  <a:srgbClr val="080808"/>
                </a:solidFill>
                <a:latin typeface="Browallia New"/>
                <a:ea typeface="Browallia New"/>
              </a:rPr>
              <a:t>- 132 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930920" y="495360"/>
            <a:ext cx="86508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2760" rIns="32760" tIns="6480" bIns="6480" anchor="t">
            <a:spAutoFit/>
          </a:bodyPr>
          <a:p>
            <a:pPr marL="325440" indent="-325440" algn="ctr">
              <a:lnSpc>
                <a:spcPct val="104000"/>
              </a:lnSpc>
              <a:spcBef>
                <a:spcPts val="938"/>
              </a:spcBef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th-TH" sz="1500" spc="-1" strike="noStrike">
                <a:solidFill>
                  <a:srgbClr val="080808"/>
                </a:solidFill>
                <a:latin typeface="Browallia New"/>
                <a:ea typeface="Browallia New"/>
              </a:rPr>
              <a:t>- 132 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5T17:41:46Z</dcterms:created>
  <dc:creator>BKK</dc:creator>
  <dc:description/>
  <dc:language>en-US</dc:language>
  <cp:lastModifiedBy>Microsoft</cp:lastModifiedBy>
  <dcterms:modified xsi:type="dcterms:W3CDTF">2009-11-13T02:50:27Z</dcterms:modified>
  <cp:revision>817</cp:revision>
  <dc:subject/>
  <dc:title>Slide 1</dc:title>
</cp:coreProperties>
</file>